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20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-180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4"/>
          </p:nvPr>
        </p:nvSpPr>
        <p:spPr>
          <a:xfrm>
            <a:off x="3884400" y="-180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35080" y="694800"/>
            <a:ext cx="4589280" cy="3441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  <a:effectLst>
            <a:outerShdw dist="323779" dir="288929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5840" y="4373640"/>
            <a:ext cx="5026320" cy="414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5"/>
          </p:nvPr>
        </p:nvSpPr>
        <p:spPr>
          <a:xfrm>
            <a:off x="-360" y="874692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6"/>
          </p:nvPr>
        </p:nvSpPr>
        <p:spPr>
          <a:xfrm>
            <a:off x="3884400" y="8746920"/>
            <a:ext cx="2973240" cy="46188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  <a:defRPr b="0" i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1DCD6195-6F7A-4557-B9FB-2B5BF89471DA}" type="slidenum"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35080" y="695160"/>
            <a:ext cx="4589280" cy="344196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5840" y="4373640"/>
            <a:ext cx="5026320" cy="4146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7520" bIns="4752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pplication Server 4.0 will also support non EJB-based CORBA 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99E19-6CF0-485D-A340-7C3D3753576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68216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7B3FB-5E3C-4519-BF26-07F91495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74E9E9-4357-4CD3-B5A3-425932702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11A98-BF02-4134-8DE5-604FE6F500F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116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92597-9AAF-4ABC-B26C-32A8A5746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68216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584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682160"/>
            <a:ext cx="206064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640080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95D52-F9AA-4D64-8A3C-4EBBEF9B9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6E55D-0565-499B-A51B-AB2C78CA4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0B7B-1FA0-4CAC-8F91-A5D6A3A65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1165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0AD22-2F46-4609-92D1-371726E8C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48D02E-F0A4-4732-85E3-BD942037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1523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5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68216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2538E-8E06-4832-993C-8B79F54A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5840"/>
            <a:ext cx="312336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7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682160"/>
            <a:ext cx="6400800" cy="72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72000"/>
          </a:bodyPr>
          <a:p>
            <a:pPr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C3FAEF-65EC-4479-A7D0-4CE8DF22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152280"/>
            <a:ext cx="8686800" cy="1371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0360" indent="-334440">
              <a:spcBef>
                <a:spcPts val="799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304280" indent="-26208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75212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91600" indent="-226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916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2743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B70C-4D9F-42A3-B566-B471FD0FFF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152280"/>
            <a:ext cx="1295280" cy="1371600"/>
          </a:xfrm>
          <a:prstGeom prst="rect">
            <a:avLst/>
          </a:prstGeom>
          <a:ln w="0">
            <a:noFill/>
          </a:ln>
        </p:spPr>
      </p:pic>
      <p:pic>
        <p:nvPicPr>
          <p:cNvPr id="6" name="bor_inp_logo" descr=""/>
          <p:cNvPicPr/>
          <p:nvPr/>
        </p:nvPicPr>
        <p:blipFill>
          <a:blip r:embed="rId4"/>
          <a:stretch/>
        </p:blipFill>
        <p:spPr>
          <a:xfrm>
            <a:off x="7924680" y="6477120"/>
            <a:ext cx="1162080" cy="333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3276360" y="6172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5" name="bor_inp_logo" descr=""/>
          <p:cNvPicPr/>
          <p:nvPr/>
        </p:nvPicPr>
        <p:blipFill>
          <a:blip r:embed="rId3"/>
          <a:stretch/>
        </p:blipFill>
        <p:spPr>
          <a:xfrm>
            <a:off x="7924680" y="6477120"/>
            <a:ext cx="1162080" cy="3333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6600" spc="-1" strike="noStrike">
              <a:solidFill>
                <a:srgbClr val="ffffff"/>
              </a:solidFill>
              <a:latin typeface="Arial Narrow"/>
            </a:endParaRPr>
          </a:p>
          <a:p>
            <a:pPr lvl="1" marL="4068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813600" indent="122760" algn="ctr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220400" indent="1512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627560" indent="4932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627560" indent="49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627560" indent="4932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327320" y="2133720"/>
            <a:ext cx="6478560" cy="4567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"/>
              </a:rPr>
              <a:t>EJB Development and Deployment with the Inprise Application Serv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tin Pamdet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chnical Business Development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prise Corporation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mpamdeth@inprise.co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newlogo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4191120" cy="135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Responsibilities of the EJB Contain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oper creation, initialization, and removal of bea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suring that methods run in the proper TX contex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isibility of the home object in a JNDI namespa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ssion Bean Cach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ersistence management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mplementation of security servi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4495680" y="1523880"/>
            <a:ext cx="381240" cy="533412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Bean Architectur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02" name=""/>
          <p:cNvSpPr/>
          <p:nvPr/>
        </p:nvSpPr>
        <p:spPr>
          <a:xfrm>
            <a:off x="1638360" y="1892160"/>
            <a:ext cx="2190600" cy="20574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EJB Ho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257800" y="3067200"/>
            <a:ext cx="2190600" cy="205740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Bean Insta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38360" y="4419720"/>
            <a:ext cx="2190600" cy="205740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Remo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 Narrow"/>
              </a:rPr>
              <a:t>Interfa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895480"/>
            <a:ext cx="838080" cy="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57200" y="4267080"/>
            <a:ext cx="1219320" cy="76212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5486400"/>
            <a:ext cx="609480" cy="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16200000">
            <a:off x="3881520" y="3834720"/>
            <a:ext cx="154440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3429000"/>
            <a:ext cx="609480" cy="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457200" y="3276720"/>
            <a:ext cx="1143000" cy="91440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89520" y="4775040"/>
            <a:ext cx="609480" cy="0"/>
          </a:xfrm>
          <a:prstGeom prst="line">
            <a:avLst/>
          </a:prstGeom>
          <a:ln w="44280">
            <a:solidFill>
              <a:srgbClr val="ffff99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Deployment Descriptor Elem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an’s cla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an’s home interfa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ean’s remote interfa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tate Management typ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ransaction demarcation typ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ntainer Managed Fiel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02120" indent="-40212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urity Role Referen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00280" indent="-297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ll Described in XML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Bean Typ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397440" indent="-39744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ssion Be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usiness Process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Execute on behalf of single cli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an be transaction awar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oes not represent directly shared data in a databa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re relatively short lived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Does not survive EJB server crash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91280" indent="-29376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ransi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974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00600" y="16765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406800" indent="-40680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ntity Be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Business Entiti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llows shared access by multiple users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Are transactional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Represents data in a databas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Long lived (as data in DB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Survives crash of EJB serv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09640" indent="-30060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Persistent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ession Bean Types 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411480" indent="-411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tateless Session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18640" indent="-30420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Does not contain conversational state between method invocations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818640" indent="-30420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Any session bean instance can be used for any client.  </a:t>
            </a: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818640" indent="-30420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Stateless beans are designed to be pooled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769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tateful Session </a:t>
            </a: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Contains conversational state which is kept across method invocations and transactions.</a:t>
            </a:r>
            <a:br>
              <a:rPr sz="2200"/>
            </a:b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  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55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 Narrow"/>
              </a:rPr>
              <a:t>Once a client has obtained a specific session bean it must use this instance for the life of the session.</a:t>
            </a:r>
            <a:endParaRPr b="0" lang="en-US" sz="2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 rot="16200000">
            <a:off x="4686120" y="1637640"/>
            <a:ext cx="3886200" cy="50292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c194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J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lients View of Session Bea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5334120" y="2209320"/>
            <a:ext cx="2438280" cy="396252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c194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JB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279360" y="2133720"/>
            <a:ext cx="1673280" cy="4258440"/>
            <a:chOff x="279360" y="2133720"/>
            <a:chExt cx="1673280" cy="4258440"/>
          </a:xfrm>
        </p:grpSpPr>
        <p:sp>
          <p:nvSpPr>
            <p:cNvPr id="224" name=""/>
            <p:cNvSpPr/>
            <p:nvPr/>
          </p:nvSpPr>
          <p:spPr>
            <a:xfrm>
              <a:off x="381240" y="2133720"/>
              <a:ext cx="1476360" cy="42177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c194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79360" y="5904000"/>
              <a:ext cx="16732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marL="312840" indent="-312840" algn="ctr">
                <a:lnSpc>
                  <a:spcPct val="120000"/>
                </a:lnSpc>
                <a:tabLst>
                  <a:tab algn="l" pos="0"/>
                  <a:tab algn="l" pos="758880"/>
                  <a:tab algn="l" pos="1517760"/>
                  <a:tab algn="l" pos="2276640"/>
                  <a:tab algn="l" pos="3035160"/>
                  <a:tab algn="l" pos="3794040"/>
                  <a:tab algn="l" pos="4552920"/>
                  <a:tab algn="l" pos="5311800"/>
                  <a:tab algn="l" pos="6070680"/>
                  <a:tab algn="l" pos="6829560"/>
                  <a:tab algn="l" pos="7588080"/>
                  <a:tab algn="l" pos="8346960"/>
                  <a:tab algn="l" pos="9105840"/>
                  <a:tab algn="l" pos="9864720"/>
                  <a:tab algn="l" pos="10623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Thin 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3520" y="3017880"/>
              <a:ext cx="1219320" cy="6764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Windows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33520" y="378000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Java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33520" y="454176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Browser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33520" y="530388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Mobile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0" name=""/>
            <p:cNvGrpSpPr/>
            <p:nvPr/>
          </p:nvGrpSpPr>
          <p:grpSpPr>
            <a:xfrm>
              <a:off x="914400" y="2157480"/>
              <a:ext cx="601920" cy="920880"/>
              <a:chOff x="914400" y="2157480"/>
              <a:chExt cx="601920" cy="920880"/>
            </a:xfrm>
          </p:grpSpPr>
          <p:sp>
            <p:nvSpPr>
              <p:cNvPr id="231" name=""/>
              <p:cNvSpPr/>
              <p:nvPr/>
            </p:nvSpPr>
            <p:spPr>
              <a:xfrm flipH="1">
                <a:off x="914040" y="2379960"/>
                <a:ext cx="567000" cy="56664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147" y="0"/>
                    </a:moveTo>
                    <a:lnTo>
                      <a:pt x="356" y="207"/>
                    </a:lnTo>
                    <a:lnTo>
                      <a:pt x="208" y="356"/>
                    </a:lnTo>
                    <a:lnTo>
                      <a:pt x="0" y="148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>
                <a:off x="914040" y="2706840"/>
                <a:ext cx="235080" cy="333360"/>
              </a:xfrm>
              <a:custGeom>
                <a:avLst/>
                <a:gdLst/>
                <a:ahLst/>
                <a:rect l="l" t="t" r="r" b="b"/>
                <a:pathLst>
                  <a:path w="148" h="210">
                    <a:moveTo>
                      <a:pt x="147" y="0"/>
                    </a:moveTo>
                    <a:lnTo>
                      <a:pt x="147" y="60"/>
                    </a:lnTo>
                    <a:lnTo>
                      <a:pt x="0" y="209"/>
                    </a:lnTo>
                    <a:lnTo>
                      <a:pt x="0" y="149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1147320" y="2614680"/>
                <a:ext cx="335160" cy="425520"/>
              </a:xfrm>
              <a:custGeom>
                <a:avLst/>
                <a:gdLst/>
                <a:ahLst/>
                <a:rect l="l" t="t" r="r" b="b"/>
                <a:pathLst>
                  <a:path w="211" h="268">
                    <a:moveTo>
                      <a:pt x="0" y="0"/>
                    </a:moveTo>
                    <a:lnTo>
                      <a:pt x="210" y="207"/>
                    </a:lnTo>
                    <a:lnTo>
                      <a:pt x="209" y="267"/>
                    </a:lnTo>
                    <a:lnTo>
                      <a:pt x="0" y="5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flipH="1">
                <a:off x="984240" y="2424240"/>
                <a:ext cx="455760" cy="455760"/>
              </a:xfrm>
              <a:custGeom>
                <a:avLst/>
                <a:gdLst/>
                <a:ahLst/>
                <a:rect l="l" t="t" r="r" b="b"/>
                <a:pathLst>
                  <a:path w="287" h="287">
                    <a:moveTo>
                      <a:pt x="109" y="0"/>
                    </a:moveTo>
                    <a:lnTo>
                      <a:pt x="286" y="177"/>
                    </a:lnTo>
                    <a:lnTo>
                      <a:pt x="176" y="286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flipH="1">
                <a:off x="1155960" y="2286000"/>
                <a:ext cx="279360" cy="561960"/>
              </a:xfrm>
              <a:custGeom>
                <a:avLst/>
                <a:gdLst/>
                <a:ahLst/>
                <a:rect l="l" t="t" r="r" b="b"/>
                <a:pathLst>
                  <a:path w="176" h="354">
                    <a:moveTo>
                      <a:pt x="0" y="0"/>
                    </a:moveTo>
                    <a:lnTo>
                      <a:pt x="175" y="177"/>
                    </a:lnTo>
                    <a:lnTo>
                      <a:pt x="175" y="353"/>
                    </a:lnTo>
                    <a:lnTo>
                      <a:pt x="0" y="1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1189080" y="2359080"/>
                <a:ext cx="208080" cy="39060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0" y="0"/>
                    </a:moveTo>
                    <a:lnTo>
                      <a:pt x="130" y="130"/>
                    </a:lnTo>
                    <a:lnTo>
                      <a:pt x="130" y="245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2346b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flipH="1">
                <a:off x="1379520" y="2341800"/>
                <a:ext cx="30240" cy="212760"/>
              </a:xfrm>
              <a:custGeom>
                <a:avLst/>
                <a:gdLst/>
                <a:ahLst/>
                <a:rect l="l" t="t" r="r" b="b"/>
                <a:pathLst>
                  <a:path w="19" h="134">
                    <a:moveTo>
                      <a:pt x="0" y="0"/>
                    </a:moveTo>
                    <a:lnTo>
                      <a:pt x="18" y="11"/>
                    </a:lnTo>
                    <a:lnTo>
                      <a:pt x="18" y="126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flipH="1">
                <a:off x="1188720" y="2544840"/>
                <a:ext cx="220680" cy="230400"/>
              </a:xfrm>
              <a:custGeom>
                <a:avLst/>
                <a:gdLst/>
                <a:ahLst/>
                <a:rect l="l" t="t" r="r" b="b"/>
                <a:pathLst>
                  <a:path w="139" h="145">
                    <a:moveTo>
                      <a:pt x="8" y="0"/>
                    </a:moveTo>
                    <a:lnTo>
                      <a:pt x="138" y="129"/>
                    </a:lnTo>
                    <a:lnTo>
                      <a:pt x="138" y="144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983880" y="2705400"/>
                <a:ext cx="174600" cy="19980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9" y="0"/>
                    </a:moveTo>
                    <a:lnTo>
                      <a:pt x="109" y="15"/>
                    </a:lnTo>
                    <a:lnTo>
                      <a:pt x="0" y="125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flipH="1">
                <a:off x="1157040" y="2597400"/>
                <a:ext cx="282600" cy="307800"/>
              </a:xfrm>
              <a:custGeom>
                <a:avLst/>
                <a:gdLst/>
                <a:ahLst/>
                <a:rect l="l" t="t" r="r" b="b"/>
                <a:pathLst>
                  <a:path w="178" h="194">
                    <a:moveTo>
                      <a:pt x="0" y="0"/>
                    </a:moveTo>
                    <a:lnTo>
                      <a:pt x="176" y="176"/>
                    </a:lnTo>
                    <a:lnTo>
                      <a:pt x="177" y="193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H="1">
                <a:off x="1195200" y="2716200"/>
                <a:ext cx="320760" cy="346320"/>
              </a:xfrm>
              <a:custGeom>
                <a:avLst/>
                <a:gdLst/>
                <a:ahLst/>
                <a:rect l="l" t="t" r="r" b="b"/>
                <a:pathLst>
                  <a:path w="202" h="218">
                    <a:moveTo>
                      <a:pt x="48" y="0"/>
                    </a:moveTo>
                    <a:lnTo>
                      <a:pt x="201" y="151"/>
                    </a:lnTo>
                    <a:lnTo>
                      <a:pt x="152" y="217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1195560" y="2957760"/>
                <a:ext cx="77760" cy="12060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8" y="0"/>
                    </a:moveTo>
                    <a:lnTo>
                      <a:pt x="47" y="15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1271520" y="2819520"/>
                <a:ext cx="244800" cy="258840"/>
              </a:xfrm>
              <a:custGeom>
                <a:avLst/>
                <a:gdLst/>
                <a:ahLst/>
                <a:rect l="l" t="t" r="r" b="b"/>
                <a:pathLst>
                  <a:path w="154" h="163">
                    <a:moveTo>
                      <a:pt x="0" y="0"/>
                    </a:moveTo>
                    <a:lnTo>
                      <a:pt x="152" y="152"/>
                    </a:lnTo>
                    <a:lnTo>
                      <a:pt x="153" y="162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flipH="1">
                <a:off x="1022040" y="2338560"/>
                <a:ext cx="81000" cy="407880"/>
              </a:xfrm>
              <a:custGeom>
                <a:avLst/>
                <a:gdLst/>
                <a:ahLst/>
                <a:rect l="l" t="t" r="r" b="b"/>
                <a:pathLst>
                  <a:path w="51" h="257">
                    <a:moveTo>
                      <a:pt x="0" y="78"/>
                    </a:moveTo>
                    <a:lnTo>
                      <a:pt x="50" y="0"/>
                    </a:lnTo>
                    <a:lnTo>
                      <a:pt x="50" y="176"/>
                    </a:lnTo>
                    <a:lnTo>
                      <a:pt x="0" y="256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1073160" y="2487600"/>
                <a:ext cx="84240" cy="363600"/>
              </a:xfrm>
              <a:custGeom>
                <a:avLst/>
                <a:gdLst/>
                <a:ahLst/>
                <a:rect l="l" t="t" r="r" b="b"/>
                <a:pathLst>
                  <a:path w="53" h="229">
                    <a:moveTo>
                      <a:pt x="0" y="50"/>
                    </a:moveTo>
                    <a:lnTo>
                      <a:pt x="52" y="0"/>
                    </a:lnTo>
                    <a:lnTo>
                      <a:pt x="52" y="176"/>
                    </a:lnTo>
                    <a:lnTo>
                      <a:pt x="0" y="228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>
                <a:off x="1022040" y="2157480"/>
                <a:ext cx="412920" cy="411120"/>
              </a:xfrm>
              <a:custGeom>
                <a:avLst/>
                <a:gdLst/>
                <a:ahLst/>
                <a:rect l="l" t="t" r="r" b="b"/>
                <a:pathLst>
                  <a:path w="260" h="259">
                    <a:moveTo>
                      <a:pt x="49" y="30"/>
                    </a:moveTo>
                    <a:lnTo>
                      <a:pt x="66" y="49"/>
                    </a:lnTo>
                    <a:lnTo>
                      <a:pt x="146" y="0"/>
                    </a:lnTo>
                    <a:lnTo>
                      <a:pt x="259" y="114"/>
                    </a:lnTo>
                    <a:lnTo>
                      <a:pt x="210" y="192"/>
                    </a:lnTo>
                    <a:lnTo>
                      <a:pt x="227" y="207"/>
                    </a:lnTo>
                    <a:lnTo>
                      <a:pt x="176" y="258"/>
                    </a:lnTo>
                    <a:lnTo>
                      <a:pt x="0" y="80"/>
                    </a:lnTo>
                    <a:lnTo>
                      <a:pt x="49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1236600" y="2762280"/>
                <a:ext cx="239760" cy="257400"/>
              </a:xfrm>
              <a:custGeom>
                <a:avLst/>
                <a:gdLst/>
                <a:ahLst/>
                <a:rect l="l" t="t" r="r" b="b"/>
                <a:pathLst>
                  <a:path w="151" h="162">
                    <a:moveTo>
                      <a:pt x="25" y="0"/>
                    </a:moveTo>
                    <a:lnTo>
                      <a:pt x="150" y="123"/>
                    </a:lnTo>
                    <a:lnTo>
                      <a:pt x="123" y="161"/>
                    </a:lnTo>
                    <a:lnTo>
                      <a:pt x="0" y="3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8" name=""/>
          <p:cNvSpPr/>
          <p:nvPr/>
        </p:nvSpPr>
        <p:spPr>
          <a:xfrm>
            <a:off x="4686480" y="3492360"/>
            <a:ext cx="3733560" cy="175284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254480" y="374652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54480" y="448308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921360" y="408924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572000" y="5511960"/>
            <a:ext cx="106668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2328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JN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905120" y="3886200"/>
            <a:ext cx="2666880" cy="1828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4114800"/>
            <a:ext cx="4267080" cy="137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Home cartHome =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javax.rmi.Portable RemoteObject.narrow(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initialContext.lookup(...), CartHome.class)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0" y="4572000"/>
            <a:ext cx="3200400" cy="609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 cart = cartHome.create(…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905120" y="47242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905120" y="398772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3200400"/>
            <a:ext cx="1828800" cy="53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.addItem(66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5410080" y="3733920"/>
            <a:ext cx="68580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114800" y="320040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.addItem(22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191120" y="320040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.purchas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3200400"/>
            <a:ext cx="1828800" cy="457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cart.remove(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905120" y="40006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905120" y="40258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5397480" y="3733920"/>
            <a:ext cx="69840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5397480" y="3733920"/>
            <a:ext cx="698400" cy="3045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905120" y="4038480"/>
            <a:ext cx="22860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5397480" y="3733920"/>
            <a:ext cx="698400" cy="3175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0" y="3809880"/>
            <a:ext cx="495360" cy="2667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0" y="3809880"/>
            <a:ext cx="533520" cy="29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0" y="3809880"/>
            <a:ext cx="533520" cy="29232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3809880"/>
            <a:ext cx="482760" cy="27936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ntity Bean Typ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4495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393120" indent="-39312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an Managed Persiste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82280" indent="-29052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entity bean implementor is responsible for implementing persistence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82280" indent="-29052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bean provider writes the code to access the underlying database or application. 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82280" indent="-29052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se calls are placed in the methods ejbCreate(), ejbFind(), ejbRemove(), ejbLoad() and ejbStore()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266720" y="15238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spcBef>
                <a:spcPts val="700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tainer Managed Persiste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36640" indent="-3106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ontainer is responsible for implementing the persistence.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36640" indent="-3106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container is responsible for generating the appropriate database access code and its execution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836640" indent="-310680">
              <a:spcBef>
                <a:spcPts val="601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The fields of the entity bean, which are managed by the container are specified in the deployment descripto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 rot="16200000">
            <a:off x="4495680" y="1447200"/>
            <a:ext cx="3886200" cy="541008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c194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JB Serv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095880" y="5905440"/>
            <a:ext cx="762120" cy="15264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095880" y="5562720"/>
            <a:ext cx="762120" cy="457200"/>
          </a:xfrm>
          <a:prstGeom prst="rect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 Narrow"/>
              </a:rPr>
              <a:t>Session Bean Interacting with Entity Bean</a:t>
            </a:r>
            <a:endParaRPr b="1" lang="en-US" sz="32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5295960" y="1790280"/>
            <a:ext cx="2438280" cy="4800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c194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1e3c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EJB Contain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279360" y="2133720"/>
            <a:ext cx="1673280" cy="4258440"/>
            <a:chOff x="279360" y="2133720"/>
            <a:chExt cx="1673280" cy="4258440"/>
          </a:xfrm>
        </p:grpSpPr>
        <p:sp>
          <p:nvSpPr>
            <p:cNvPr id="282" name=""/>
            <p:cNvSpPr/>
            <p:nvPr/>
          </p:nvSpPr>
          <p:spPr>
            <a:xfrm>
              <a:off x="381240" y="2133720"/>
              <a:ext cx="1476360" cy="42177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100000">
                  <a:srgbClr val="0c194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1e3c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9360" y="5904000"/>
              <a:ext cx="1673280" cy="48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4240" rIns="84240" tIns="42840" bIns="42840" anchor="t">
              <a:spAutoFit/>
            </a:bodyPr>
            <a:p>
              <a:pPr marL="312840" indent="-312840" algn="ctr">
                <a:lnSpc>
                  <a:spcPct val="120000"/>
                </a:lnSpc>
                <a:tabLst>
                  <a:tab algn="l" pos="0"/>
                  <a:tab algn="l" pos="758880"/>
                  <a:tab algn="l" pos="1517760"/>
                  <a:tab algn="l" pos="2276640"/>
                  <a:tab algn="l" pos="3035160"/>
                  <a:tab algn="l" pos="3794040"/>
                  <a:tab algn="l" pos="4552920"/>
                  <a:tab algn="l" pos="5311800"/>
                  <a:tab algn="l" pos="6070680"/>
                  <a:tab algn="l" pos="6829560"/>
                  <a:tab algn="l" pos="7588080"/>
                  <a:tab algn="l" pos="8346960"/>
                  <a:tab algn="l" pos="9105840"/>
                  <a:tab algn="l" pos="9864720"/>
                  <a:tab algn="l" pos="106236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 Narrow"/>
                </a:rPr>
                <a:t>Thin 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3520" y="3017880"/>
              <a:ext cx="1219320" cy="6764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Windows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33520" y="378000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Java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33520" y="454176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Browser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3520" y="5303880"/>
              <a:ext cx="1219320" cy="68580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Mobile</a:t>
              </a:r>
              <a:br>
                <a:rPr sz="2200"/>
              </a:br>
              <a:r>
                <a:rPr b="0" lang="en-US" sz="2200" spc="-1" strike="noStrike">
                  <a:solidFill>
                    <a:srgbClr val="ffffff"/>
                  </a:solidFill>
                  <a:latin typeface="Arial Narrow"/>
                </a:rPr>
                <a:t>Client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8" name=""/>
            <p:cNvGrpSpPr/>
            <p:nvPr/>
          </p:nvGrpSpPr>
          <p:grpSpPr>
            <a:xfrm>
              <a:off x="914400" y="2157480"/>
              <a:ext cx="601920" cy="920880"/>
              <a:chOff x="914400" y="2157480"/>
              <a:chExt cx="601920" cy="920880"/>
            </a:xfrm>
          </p:grpSpPr>
          <p:sp>
            <p:nvSpPr>
              <p:cNvPr id="289" name=""/>
              <p:cNvSpPr/>
              <p:nvPr/>
            </p:nvSpPr>
            <p:spPr>
              <a:xfrm flipH="1">
                <a:off x="914040" y="2379960"/>
                <a:ext cx="567000" cy="56664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147" y="0"/>
                    </a:moveTo>
                    <a:lnTo>
                      <a:pt x="356" y="207"/>
                    </a:lnTo>
                    <a:lnTo>
                      <a:pt x="208" y="356"/>
                    </a:lnTo>
                    <a:lnTo>
                      <a:pt x="0" y="148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flipH="1">
                <a:off x="914040" y="2706840"/>
                <a:ext cx="235080" cy="333360"/>
              </a:xfrm>
              <a:custGeom>
                <a:avLst/>
                <a:gdLst/>
                <a:ahLst/>
                <a:rect l="l" t="t" r="r" b="b"/>
                <a:pathLst>
                  <a:path w="148" h="210">
                    <a:moveTo>
                      <a:pt x="147" y="0"/>
                    </a:moveTo>
                    <a:lnTo>
                      <a:pt x="147" y="60"/>
                    </a:lnTo>
                    <a:lnTo>
                      <a:pt x="0" y="209"/>
                    </a:lnTo>
                    <a:lnTo>
                      <a:pt x="0" y="149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flipH="1">
                <a:off x="1147320" y="2614680"/>
                <a:ext cx="335160" cy="425520"/>
              </a:xfrm>
              <a:custGeom>
                <a:avLst/>
                <a:gdLst/>
                <a:ahLst/>
                <a:rect l="l" t="t" r="r" b="b"/>
                <a:pathLst>
                  <a:path w="211" h="268">
                    <a:moveTo>
                      <a:pt x="0" y="0"/>
                    </a:moveTo>
                    <a:lnTo>
                      <a:pt x="210" y="207"/>
                    </a:lnTo>
                    <a:lnTo>
                      <a:pt x="209" y="267"/>
                    </a:lnTo>
                    <a:lnTo>
                      <a:pt x="0" y="5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flipH="1">
                <a:off x="984240" y="2424240"/>
                <a:ext cx="455760" cy="455760"/>
              </a:xfrm>
              <a:custGeom>
                <a:avLst/>
                <a:gdLst/>
                <a:ahLst/>
                <a:rect l="l" t="t" r="r" b="b"/>
                <a:pathLst>
                  <a:path w="287" h="287">
                    <a:moveTo>
                      <a:pt x="109" y="0"/>
                    </a:moveTo>
                    <a:lnTo>
                      <a:pt x="286" y="177"/>
                    </a:lnTo>
                    <a:lnTo>
                      <a:pt x="176" y="286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flipH="1">
                <a:off x="1155960" y="2286000"/>
                <a:ext cx="279360" cy="561960"/>
              </a:xfrm>
              <a:custGeom>
                <a:avLst/>
                <a:gdLst/>
                <a:ahLst/>
                <a:rect l="l" t="t" r="r" b="b"/>
                <a:pathLst>
                  <a:path w="176" h="354">
                    <a:moveTo>
                      <a:pt x="0" y="0"/>
                    </a:moveTo>
                    <a:lnTo>
                      <a:pt x="175" y="177"/>
                    </a:lnTo>
                    <a:lnTo>
                      <a:pt x="175" y="353"/>
                    </a:lnTo>
                    <a:lnTo>
                      <a:pt x="0" y="1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flipH="1">
                <a:off x="1189080" y="2359080"/>
                <a:ext cx="208080" cy="39060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0" y="0"/>
                    </a:moveTo>
                    <a:lnTo>
                      <a:pt x="130" y="130"/>
                    </a:lnTo>
                    <a:lnTo>
                      <a:pt x="130" y="245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2346b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flipH="1">
                <a:off x="1379520" y="2341800"/>
                <a:ext cx="30240" cy="212760"/>
              </a:xfrm>
              <a:custGeom>
                <a:avLst/>
                <a:gdLst/>
                <a:ahLst/>
                <a:rect l="l" t="t" r="r" b="b"/>
                <a:pathLst>
                  <a:path w="19" h="134">
                    <a:moveTo>
                      <a:pt x="0" y="0"/>
                    </a:moveTo>
                    <a:lnTo>
                      <a:pt x="18" y="11"/>
                    </a:lnTo>
                    <a:lnTo>
                      <a:pt x="18" y="126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1188720" y="2544840"/>
                <a:ext cx="220680" cy="230400"/>
              </a:xfrm>
              <a:custGeom>
                <a:avLst/>
                <a:gdLst/>
                <a:ahLst/>
                <a:rect l="l" t="t" r="r" b="b"/>
                <a:pathLst>
                  <a:path w="139" h="145">
                    <a:moveTo>
                      <a:pt x="8" y="0"/>
                    </a:moveTo>
                    <a:lnTo>
                      <a:pt x="138" y="129"/>
                    </a:lnTo>
                    <a:lnTo>
                      <a:pt x="138" y="144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983880" y="2705400"/>
                <a:ext cx="174600" cy="19980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9" y="0"/>
                    </a:moveTo>
                    <a:lnTo>
                      <a:pt x="109" y="15"/>
                    </a:lnTo>
                    <a:lnTo>
                      <a:pt x="0" y="125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1157040" y="2597400"/>
                <a:ext cx="282600" cy="307800"/>
              </a:xfrm>
              <a:custGeom>
                <a:avLst/>
                <a:gdLst/>
                <a:ahLst/>
                <a:rect l="l" t="t" r="r" b="b"/>
                <a:pathLst>
                  <a:path w="178" h="194">
                    <a:moveTo>
                      <a:pt x="0" y="0"/>
                    </a:moveTo>
                    <a:lnTo>
                      <a:pt x="176" y="176"/>
                    </a:lnTo>
                    <a:lnTo>
                      <a:pt x="177" y="193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>
                <a:off x="1195200" y="2716200"/>
                <a:ext cx="320760" cy="346320"/>
              </a:xfrm>
              <a:custGeom>
                <a:avLst/>
                <a:gdLst/>
                <a:ahLst/>
                <a:rect l="l" t="t" r="r" b="b"/>
                <a:pathLst>
                  <a:path w="202" h="218">
                    <a:moveTo>
                      <a:pt x="48" y="0"/>
                    </a:moveTo>
                    <a:lnTo>
                      <a:pt x="201" y="151"/>
                    </a:lnTo>
                    <a:lnTo>
                      <a:pt x="152" y="217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flipH="1">
                <a:off x="1195560" y="2957760"/>
                <a:ext cx="77760" cy="12060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8" y="0"/>
                    </a:moveTo>
                    <a:lnTo>
                      <a:pt x="47" y="15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flipH="1">
                <a:off x="1271520" y="2819520"/>
                <a:ext cx="244800" cy="258840"/>
              </a:xfrm>
              <a:custGeom>
                <a:avLst/>
                <a:gdLst/>
                <a:ahLst/>
                <a:rect l="l" t="t" r="r" b="b"/>
                <a:pathLst>
                  <a:path w="154" h="163">
                    <a:moveTo>
                      <a:pt x="0" y="0"/>
                    </a:moveTo>
                    <a:lnTo>
                      <a:pt x="152" y="152"/>
                    </a:lnTo>
                    <a:lnTo>
                      <a:pt x="153" y="162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H="1">
                <a:off x="1022040" y="2338560"/>
                <a:ext cx="81000" cy="407880"/>
              </a:xfrm>
              <a:custGeom>
                <a:avLst/>
                <a:gdLst/>
                <a:ahLst/>
                <a:rect l="l" t="t" r="r" b="b"/>
                <a:pathLst>
                  <a:path w="51" h="257">
                    <a:moveTo>
                      <a:pt x="0" y="78"/>
                    </a:moveTo>
                    <a:lnTo>
                      <a:pt x="50" y="0"/>
                    </a:lnTo>
                    <a:lnTo>
                      <a:pt x="50" y="176"/>
                    </a:lnTo>
                    <a:lnTo>
                      <a:pt x="0" y="256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1073160" y="2487600"/>
                <a:ext cx="84240" cy="363600"/>
              </a:xfrm>
              <a:custGeom>
                <a:avLst/>
                <a:gdLst/>
                <a:ahLst/>
                <a:rect l="l" t="t" r="r" b="b"/>
                <a:pathLst>
                  <a:path w="53" h="229">
                    <a:moveTo>
                      <a:pt x="0" y="50"/>
                    </a:moveTo>
                    <a:lnTo>
                      <a:pt x="52" y="0"/>
                    </a:lnTo>
                    <a:lnTo>
                      <a:pt x="52" y="176"/>
                    </a:lnTo>
                    <a:lnTo>
                      <a:pt x="0" y="228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1022040" y="2157480"/>
                <a:ext cx="412920" cy="411120"/>
              </a:xfrm>
              <a:custGeom>
                <a:avLst/>
                <a:gdLst/>
                <a:ahLst/>
                <a:rect l="l" t="t" r="r" b="b"/>
                <a:pathLst>
                  <a:path w="260" h="259">
                    <a:moveTo>
                      <a:pt x="49" y="30"/>
                    </a:moveTo>
                    <a:lnTo>
                      <a:pt x="66" y="49"/>
                    </a:lnTo>
                    <a:lnTo>
                      <a:pt x="146" y="0"/>
                    </a:lnTo>
                    <a:lnTo>
                      <a:pt x="259" y="114"/>
                    </a:lnTo>
                    <a:lnTo>
                      <a:pt x="210" y="192"/>
                    </a:lnTo>
                    <a:lnTo>
                      <a:pt x="227" y="207"/>
                    </a:lnTo>
                    <a:lnTo>
                      <a:pt x="176" y="258"/>
                    </a:lnTo>
                    <a:lnTo>
                      <a:pt x="0" y="80"/>
                    </a:lnTo>
                    <a:lnTo>
                      <a:pt x="49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flipH="1">
                <a:off x="1236600" y="2762280"/>
                <a:ext cx="239760" cy="257400"/>
              </a:xfrm>
              <a:custGeom>
                <a:avLst/>
                <a:gdLst/>
                <a:ahLst/>
                <a:rect l="l" t="t" r="r" b="b"/>
                <a:pathLst>
                  <a:path w="151" h="162">
                    <a:moveTo>
                      <a:pt x="25" y="0"/>
                    </a:moveTo>
                    <a:lnTo>
                      <a:pt x="150" y="123"/>
                    </a:lnTo>
                    <a:lnTo>
                      <a:pt x="123" y="161"/>
                    </a:lnTo>
                    <a:lnTo>
                      <a:pt x="0" y="3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6" name=""/>
          <p:cNvSpPr/>
          <p:nvPr/>
        </p:nvSpPr>
        <p:spPr>
          <a:xfrm>
            <a:off x="4241880" y="3492360"/>
            <a:ext cx="4572000" cy="175284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962520" y="3784680"/>
            <a:ext cx="1130040" cy="5331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18040" y="379728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Cart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572000" y="5511960"/>
            <a:ext cx="1066680" cy="4572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323284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JND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924680" y="3797280"/>
            <a:ext cx="1130400" cy="53352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rder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948440" y="4419720"/>
            <a:ext cx="1130400" cy="5331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r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918040" y="4457880"/>
            <a:ext cx="1130400" cy="53316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Order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095880" y="5486400"/>
            <a:ext cx="762120" cy="15228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867280" y="3505320"/>
            <a:ext cx="327672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der.findByPrimaryKey(orderNo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905120" y="4038480"/>
            <a:ext cx="1981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105520" y="4038480"/>
            <a:ext cx="7617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299280" y="50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553080" y="50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086600" y="4038480"/>
            <a:ext cx="762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086600" y="4038480"/>
            <a:ext cx="83808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7086600" y="472428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388200" y="50166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642000" y="5029200"/>
            <a:ext cx="0" cy="4572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138720" y="4982760"/>
            <a:ext cx="69876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943600" y="4191120"/>
            <a:ext cx="106668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jbLoad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4419720"/>
            <a:ext cx="137160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placeOrder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061040" y="4089240"/>
            <a:ext cx="838440" cy="60984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7086600" y="4813200"/>
            <a:ext cx="83808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56400" y="4495680"/>
            <a:ext cx="1587600" cy="304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orderComplet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956200" y="4229280"/>
            <a:ext cx="1067040" cy="304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57575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ejbStore(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5105520" y="4114800"/>
            <a:ext cx="838080" cy="13716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here does CORBA fit in?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e role of CORBA in EJB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693800" y="2923920"/>
            <a:ext cx="5925960" cy="1167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The Enterprise Java Beans Architectur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ill be compatible with CORB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907800" y="4572000"/>
            <a:ext cx="448416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- EJB 1.0 Specification Section 2.1 Overall Goal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T Challenge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help enterprises compete, to adapt quickly and effectivel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streamline, accelerate development  and deployment proce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 keep business running once in produc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st effectivel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457200" y="1981080"/>
            <a:ext cx="8381880" cy="3888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o ensure interoperability for multi-vendor environments, we define a standard mapping of the Enterprise JavaBean client’s view contract to CORBA.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The mapping to CORBA cove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1. Mapping of the EJB Client interfaces to CORBA ID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2. Propagation of transaction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ffcc00"/>
                </a:solidFill>
                <a:latin typeface="Arial Narrow"/>
              </a:rPr>
              <a:t>3. Propagation of security contex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1.0 Section 4.4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tandard CORBA Mapping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Results of the CORBA Mapping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n the wire interoperability between EJB Servers from multiple vendor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ables non-Java clients to access EJB’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RBA Object Services allow security and transactions to be handled in a distributed vendor independent manner.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IOP Puts the “E” in EJB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Unification of RMI and CORBA:  RMI/IIO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can leverage the industry investment in CORBA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can interoperate with existing deployed CORBA applica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IOP proven scalabil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 4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From EJB to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= Technolog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pplication Server = Solu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prise Application Server 4.0 will be based on EJ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RBA implementation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ools suppor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grated managemen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812880" y="3419640"/>
            <a:ext cx="7654320" cy="1002600"/>
            <a:chOff x="812880" y="3419640"/>
            <a:chExt cx="7654320" cy="1002600"/>
          </a:xfrm>
        </p:grpSpPr>
        <p:sp>
          <p:nvSpPr>
            <p:cNvPr id="347" name=""/>
            <p:cNvSpPr/>
            <p:nvPr/>
          </p:nvSpPr>
          <p:spPr>
            <a:xfrm>
              <a:off x="812880" y="3419640"/>
              <a:ext cx="7654320" cy="1002600"/>
            </a:xfrm>
            <a:prstGeom prst="rightArrow">
              <a:avLst>
                <a:gd name="adj1" fmla="val 81167"/>
                <a:gd name="adj2" fmla="val 54749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82720" y="3658680"/>
              <a:ext cx="17488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96840" y="3660480"/>
              <a:ext cx="147312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429080" y="3660480"/>
              <a:ext cx="16102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plo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171120" y="3660480"/>
              <a:ext cx="170784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612720" y="216612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d development-to-management enterprise-application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811080" y="4443480"/>
            <a:ext cx="2874960" cy="723960"/>
            <a:chOff x="811080" y="4443480"/>
            <a:chExt cx="2874960" cy="723960"/>
          </a:xfrm>
        </p:grpSpPr>
        <p:sp>
          <p:nvSpPr>
            <p:cNvPr id="354" name=""/>
            <p:cNvSpPr/>
            <p:nvPr/>
          </p:nvSpPr>
          <p:spPr>
            <a:xfrm>
              <a:off x="811080" y="4443480"/>
              <a:ext cx="2874960" cy="723960"/>
            </a:xfrm>
            <a:prstGeom prst="leftRightArrow">
              <a:avLst>
                <a:gd name="adj1" fmla="val 50000"/>
                <a:gd name="adj2" fmla="val 7905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070280" y="4567680"/>
              <a:ext cx="24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velopment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3249720" y="4782960"/>
            <a:ext cx="2997000" cy="723600"/>
            <a:chOff x="3249720" y="4782960"/>
            <a:chExt cx="2997000" cy="723600"/>
          </a:xfrm>
        </p:grpSpPr>
        <p:sp>
          <p:nvSpPr>
            <p:cNvPr id="357" name=""/>
            <p:cNvSpPr/>
            <p:nvPr/>
          </p:nvSpPr>
          <p:spPr>
            <a:xfrm>
              <a:off x="3249720" y="4782960"/>
              <a:ext cx="2997000" cy="723600"/>
            </a:xfrm>
            <a:prstGeom prst="leftRightArrow">
              <a:avLst>
                <a:gd name="adj1" fmla="val 50000"/>
                <a:gd name="adj2" fmla="val 824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556080" y="4915080"/>
              <a:ext cx="23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ication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5816520" y="5122800"/>
            <a:ext cx="2274840" cy="723960"/>
            <a:chOff x="5816520" y="5122800"/>
            <a:chExt cx="2274840" cy="723960"/>
          </a:xfrm>
        </p:grpSpPr>
        <p:sp>
          <p:nvSpPr>
            <p:cNvPr id="360" name=""/>
            <p:cNvSpPr/>
            <p:nvPr/>
          </p:nvSpPr>
          <p:spPr>
            <a:xfrm>
              <a:off x="5816520" y="5122800"/>
              <a:ext cx="2274840" cy="723960"/>
            </a:xfrm>
            <a:prstGeom prst="leftRightArrow">
              <a:avLst>
                <a:gd name="adj1" fmla="val 59648"/>
                <a:gd name="adj2" fmla="val 7762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25840" y="525528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Cen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:</a:t>
            </a:r>
            <a:br>
              <a:rPr sz="4400"/>
            </a:b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ritical Strength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31800" y="162864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438840" indent="-438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mplete development-to-management solution supporting multiple clients, business servers, and database and legacy acces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orld-class development tools: breakthrough productivity for building transactional CORBA/EJB applica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Open and extensible architecture through scalable CORBA/EJB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73000" indent="-32436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obust distributed-application-management tool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6413400" y="4546440"/>
            <a:ext cx="83844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495680" y="4546440"/>
            <a:ext cx="83844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565360" y="4546440"/>
            <a:ext cx="83808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Narrow"/>
              </a:rPr>
              <a:t>The IAS Architecture</a:t>
            </a:r>
            <a:endParaRPr b="1" lang="en-US" sz="4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68" name=""/>
          <p:cNvSpPr/>
          <p:nvPr/>
        </p:nvSpPr>
        <p:spPr>
          <a:xfrm>
            <a:off x="622440" y="4546440"/>
            <a:ext cx="83808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22440" y="3251160"/>
            <a:ext cx="6629400" cy="129528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Inprise Application Serv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3880" y="4775040"/>
            <a:ext cx="83844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454560" y="4762440"/>
            <a:ext cx="83808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ntain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372280" y="4762440"/>
            <a:ext cx="83808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R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ic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13400" y="2616120"/>
            <a:ext cx="83844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95680" y="2616120"/>
            <a:ext cx="83844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565360" y="2616120"/>
            <a:ext cx="8380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22440" y="2616120"/>
            <a:ext cx="8380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1574640" y="1892160"/>
            <a:ext cx="83844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ss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tat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505320" y="1892160"/>
            <a:ext cx="83808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JTS/I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423040" y="1892160"/>
            <a:ext cx="838080" cy="13082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Visibroke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C++ &amp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Java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Object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251840" y="2616120"/>
            <a:ext cx="838080" cy="6732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226280" y="4356000"/>
            <a:ext cx="838080" cy="838440"/>
          </a:xfrm>
          <a:prstGeom prst="rect">
            <a:avLst/>
          </a:prstGeom>
          <a:gradFill rotWithShape="0">
            <a:gsLst>
              <a:gs pos="0">
                <a:srgbClr val="001a28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rot="16195800">
            <a:off x="7588080" y="3244680"/>
            <a:ext cx="838080" cy="130788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395480" y="3428640"/>
            <a:ext cx="132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GUI &amp;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Manag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Conso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Web Server Integrat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grate EJB Container(s) and Web Server as services as part of Application Serv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bility to run all of the services as part of single process or distribute individual serv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JB Server can run with or without Web Serv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rowser-based GUI to configure servic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-44316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Web Serv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82360" indent="-3276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rvlet and JSP engi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3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4038480" y="3403440"/>
            <a:ext cx="106704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Compact Configurat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388" name=""/>
          <p:cNvSpPr/>
          <p:nvPr/>
        </p:nvSpPr>
        <p:spPr>
          <a:xfrm>
            <a:off x="4038480" y="2717640"/>
            <a:ext cx="1067040" cy="64800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104840" y="1676520"/>
            <a:ext cx="1066680" cy="1294560"/>
            <a:chOff x="1104840" y="1676520"/>
            <a:chExt cx="1066680" cy="1294560"/>
          </a:xfrm>
        </p:grpSpPr>
        <p:sp>
          <p:nvSpPr>
            <p:cNvPr id="390" name=""/>
            <p:cNvSpPr/>
            <p:nvPr/>
          </p:nvSpPr>
          <p:spPr>
            <a:xfrm>
              <a:off x="1104840" y="1997280"/>
              <a:ext cx="1066680" cy="973800"/>
            </a:xfrm>
            <a:custGeom>
              <a:avLst/>
              <a:gdLst/>
              <a:ahLst/>
              <a:rect l="l" t="t" r="r" b="b"/>
              <a:pathLst>
                <a:path w="371" h="373">
                  <a:moveTo>
                    <a:pt x="370" y="248"/>
                  </a:moveTo>
                  <a:lnTo>
                    <a:pt x="368" y="260"/>
                  </a:lnTo>
                  <a:lnTo>
                    <a:pt x="365" y="273"/>
                  </a:lnTo>
                  <a:lnTo>
                    <a:pt x="361" y="284"/>
                  </a:lnTo>
                  <a:lnTo>
                    <a:pt x="354" y="296"/>
                  </a:lnTo>
                  <a:lnTo>
                    <a:pt x="347" y="307"/>
                  </a:lnTo>
                  <a:lnTo>
                    <a:pt x="337" y="317"/>
                  </a:lnTo>
                  <a:lnTo>
                    <a:pt x="326" y="327"/>
                  </a:lnTo>
                  <a:lnTo>
                    <a:pt x="315" y="335"/>
                  </a:lnTo>
                  <a:lnTo>
                    <a:pt x="302" y="342"/>
                  </a:lnTo>
                  <a:lnTo>
                    <a:pt x="288" y="349"/>
                  </a:lnTo>
                  <a:lnTo>
                    <a:pt x="272" y="356"/>
                  </a:lnTo>
                  <a:lnTo>
                    <a:pt x="255" y="360"/>
                  </a:lnTo>
                  <a:lnTo>
                    <a:pt x="240" y="365"/>
                  </a:lnTo>
                  <a:lnTo>
                    <a:pt x="221" y="369"/>
                  </a:lnTo>
                  <a:lnTo>
                    <a:pt x="203" y="370"/>
                  </a:lnTo>
                  <a:lnTo>
                    <a:pt x="185" y="372"/>
                  </a:lnTo>
                  <a:lnTo>
                    <a:pt x="165" y="370"/>
                  </a:lnTo>
                  <a:lnTo>
                    <a:pt x="147" y="369"/>
                  </a:lnTo>
                  <a:lnTo>
                    <a:pt x="128" y="365"/>
                  </a:lnTo>
                  <a:lnTo>
                    <a:pt x="111" y="360"/>
                  </a:lnTo>
                  <a:lnTo>
                    <a:pt x="96" y="356"/>
                  </a:lnTo>
                  <a:lnTo>
                    <a:pt x="80" y="349"/>
                  </a:lnTo>
                  <a:lnTo>
                    <a:pt x="66" y="342"/>
                  </a:lnTo>
                  <a:lnTo>
                    <a:pt x="54" y="335"/>
                  </a:lnTo>
                  <a:lnTo>
                    <a:pt x="41" y="327"/>
                  </a:lnTo>
                  <a:lnTo>
                    <a:pt x="31" y="317"/>
                  </a:lnTo>
                  <a:lnTo>
                    <a:pt x="21" y="307"/>
                  </a:lnTo>
                  <a:lnTo>
                    <a:pt x="14" y="296"/>
                  </a:lnTo>
                  <a:lnTo>
                    <a:pt x="7" y="284"/>
                  </a:lnTo>
                  <a:lnTo>
                    <a:pt x="3" y="273"/>
                  </a:lnTo>
                  <a:lnTo>
                    <a:pt x="0" y="260"/>
                  </a:lnTo>
                  <a:lnTo>
                    <a:pt x="0" y="248"/>
                  </a:lnTo>
                  <a:lnTo>
                    <a:pt x="0" y="0"/>
                  </a:lnTo>
                  <a:lnTo>
                    <a:pt x="370" y="0"/>
                  </a:lnTo>
                  <a:lnTo>
                    <a:pt x="370" y="248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104840" y="1676520"/>
              <a:ext cx="1066680" cy="644760"/>
            </a:xfrm>
            <a:custGeom>
              <a:avLst/>
              <a:gdLst/>
              <a:ahLst/>
              <a:rect l="l" t="t" r="r" b="b"/>
              <a:pathLst>
                <a:path w="371" h="247">
                  <a:moveTo>
                    <a:pt x="0" y="123"/>
                  </a:moveTo>
                  <a:lnTo>
                    <a:pt x="0" y="110"/>
                  </a:lnTo>
                  <a:lnTo>
                    <a:pt x="3" y="97"/>
                  </a:lnTo>
                  <a:lnTo>
                    <a:pt x="7" y="86"/>
                  </a:lnTo>
                  <a:lnTo>
                    <a:pt x="14" y="75"/>
                  </a:lnTo>
                  <a:lnTo>
                    <a:pt x="21" y="64"/>
                  </a:lnTo>
                  <a:lnTo>
                    <a:pt x="31" y="54"/>
                  </a:lnTo>
                  <a:lnTo>
                    <a:pt x="41" y="44"/>
                  </a:lnTo>
                  <a:lnTo>
                    <a:pt x="54" y="35"/>
                  </a:lnTo>
                  <a:lnTo>
                    <a:pt x="66" y="28"/>
                  </a:lnTo>
                  <a:lnTo>
                    <a:pt x="80" y="21"/>
                  </a:lnTo>
                  <a:lnTo>
                    <a:pt x="96" y="14"/>
                  </a:lnTo>
                  <a:lnTo>
                    <a:pt x="111" y="10"/>
                  </a:lnTo>
                  <a:lnTo>
                    <a:pt x="128" y="6"/>
                  </a:lnTo>
                  <a:lnTo>
                    <a:pt x="147" y="1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3" y="0"/>
                  </a:lnTo>
                  <a:lnTo>
                    <a:pt x="221" y="1"/>
                  </a:lnTo>
                  <a:lnTo>
                    <a:pt x="240" y="6"/>
                  </a:lnTo>
                  <a:lnTo>
                    <a:pt x="255" y="10"/>
                  </a:lnTo>
                  <a:lnTo>
                    <a:pt x="272" y="14"/>
                  </a:lnTo>
                  <a:lnTo>
                    <a:pt x="288" y="21"/>
                  </a:lnTo>
                  <a:lnTo>
                    <a:pt x="302" y="28"/>
                  </a:lnTo>
                  <a:lnTo>
                    <a:pt x="315" y="35"/>
                  </a:lnTo>
                  <a:lnTo>
                    <a:pt x="326" y="44"/>
                  </a:lnTo>
                  <a:lnTo>
                    <a:pt x="337" y="54"/>
                  </a:lnTo>
                  <a:lnTo>
                    <a:pt x="347" y="64"/>
                  </a:lnTo>
                  <a:lnTo>
                    <a:pt x="354" y="75"/>
                  </a:lnTo>
                  <a:lnTo>
                    <a:pt x="361" y="86"/>
                  </a:lnTo>
                  <a:lnTo>
                    <a:pt x="365" y="97"/>
                  </a:lnTo>
                  <a:lnTo>
                    <a:pt x="368" y="110"/>
                  </a:lnTo>
                  <a:lnTo>
                    <a:pt x="370" y="123"/>
                  </a:lnTo>
                  <a:lnTo>
                    <a:pt x="368" y="135"/>
                  </a:lnTo>
                  <a:lnTo>
                    <a:pt x="365" y="147"/>
                  </a:lnTo>
                  <a:lnTo>
                    <a:pt x="361" y="159"/>
                  </a:lnTo>
                  <a:lnTo>
                    <a:pt x="354" y="171"/>
                  </a:lnTo>
                  <a:lnTo>
                    <a:pt x="347" y="181"/>
                  </a:lnTo>
                  <a:lnTo>
                    <a:pt x="337" y="191"/>
                  </a:lnTo>
                  <a:lnTo>
                    <a:pt x="326" y="200"/>
                  </a:lnTo>
                  <a:lnTo>
                    <a:pt x="315" y="209"/>
                  </a:lnTo>
                  <a:lnTo>
                    <a:pt x="302" y="217"/>
                  </a:lnTo>
                  <a:lnTo>
                    <a:pt x="288" y="224"/>
                  </a:lnTo>
                  <a:lnTo>
                    <a:pt x="272" y="230"/>
                  </a:lnTo>
                  <a:lnTo>
                    <a:pt x="255" y="236"/>
                  </a:lnTo>
                  <a:lnTo>
                    <a:pt x="240" y="239"/>
                  </a:lnTo>
                  <a:lnTo>
                    <a:pt x="221" y="243"/>
                  </a:lnTo>
                  <a:lnTo>
                    <a:pt x="203" y="244"/>
                  </a:lnTo>
                  <a:lnTo>
                    <a:pt x="185" y="246"/>
                  </a:lnTo>
                  <a:lnTo>
                    <a:pt x="165" y="244"/>
                  </a:lnTo>
                  <a:lnTo>
                    <a:pt x="147" y="243"/>
                  </a:lnTo>
                  <a:lnTo>
                    <a:pt x="128" y="239"/>
                  </a:lnTo>
                  <a:lnTo>
                    <a:pt x="111" y="236"/>
                  </a:lnTo>
                  <a:lnTo>
                    <a:pt x="96" y="230"/>
                  </a:lnTo>
                  <a:lnTo>
                    <a:pt x="80" y="224"/>
                  </a:lnTo>
                  <a:lnTo>
                    <a:pt x="66" y="217"/>
                  </a:lnTo>
                  <a:lnTo>
                    <a:pt x="54" y="209"/>
                  </a:lnTo>
                  <a:lnTo>
                    <a:pt x="41" y="200"/>
                  </a:lnTo>
                  <a:lnTo>
                    <a:pt x="31" y="191"/>
                  </a:lnTo>
                  <a:lnTo>
                    <a:pt x="21" y="181"/>
                  </a:lnTo>
                  <a:lnTo>
                    <a:pt x="14" y="171"/>
                  </a:lnTo>
                  <a:lnTo>
                    <a:pt x="7" y="159"/>
                  </a:lnTo>
                  <a:lnTo>
                    <a:pt x="3" y="147"/>
                  </a:lnTo>
                  <a:lnTo>
                    <a:pt x="0" y="135"/>
                  </a:lnTo>
                  <a:lnTo>
                    <a:pt x="0" y="123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3886200" y="5334120"/>
            <a:ext cx="1371600" cy="1371600"/>
            <a:chOff x="3886200" y="5334120"/>
            <a:chExt cx="1371600" cy="1371600"/>
          </a:xfrm>
        </p:grpSpPr>
        <p:sp>
          <p:nvSpPr>
            <p:cNvPr id="393" name=""/>
            <p:cNvSpPr/>
            <p:nvPr/>
          </p:nvSpPr>
          <p:spPr>
            <a:xfrm>
              <a:off x="3886200" y="5334120"/>
              <a:ext cx="1371600" cy="1371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952880" y="5334120"/>
              <a:ext cx="304920" cy="3049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962160" y="5486760"/>
              <a:ext cx="9144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962160" y="5867640"/>
              <a:ext cx="12193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/>
          <p:nvPr/>
        </p:nvSpPr>
        <p:spPr>
          <a:xfrm>
            <a:off x="4572000" y="4038480"/>
            <a:ext cx="0" cy="1295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235400" y="4539600"/>
            <a:ext cx="66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057920" y="60188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HTM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133360" y="2362320"/>
            <a:ext cx="19047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051440" y="201924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667960" y="21837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D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T Requirem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eet the challenges by taking advantage of We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ternet, Intranet, Extranet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ure, transactional access to multiple enterprise system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 reliable, high-performing mann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4152960" y="295920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nterprise Configurat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05" name=""/>
          <p:cNvSpPr/>
          <p:nvPr/>
        </p:nvSpPr>
        <p:spPr>
          <a:xfrm>
            <a:off x="4152960" y="227340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6" name=""/>
          <p:cNvGrpSpPr/>
          <p:nvPr/>
        </p:nvGrpSpPr>
        <p:grpSpPr>
          <a:xfrm>
            <a:off x="393840" y="2286000"/>
            <a:ext cx="1066320" cy="1294560"/>
            <a:chOff x="393840" y="2286000"/>
            <a:chExt cx="1066320" cy="1294560"/>
          </a:xfrm>
        </p:grpSpPr>
        <p:sp>
          <p:nvSpPr>
            <p:cNvPr id="407" name=""/>
            <p:cNvSpPr/>
            <p:nvPr/>
          </p:nvSpPr>
          <p:spPr>
            <a:xfrm>
              <a:off x="393840" y="2606760"/>
              <a:ext cx="1066320" cy="973800"/>
            </a:xfrm>
            <a:custGeom>
              <a:avLst/>
              <a:gdLst/>
              <a:ahLst/>
              <a:rect l="l" t="t" r="r" b="b"/>
              <a:pathLst>
                <a:path w="371" h="373">
                  <a:moveTo>
                    <a:pt x="370" y="248"/>
                  </a:moveTo>
                  <a:lnTo>
                    <a:pt x="368" y="260"/>
                  </a:lnTo>
                  <a:lnTo>
                    <a:pt x="365" y="273"/>
                  </a:lnTo>
                  <a:lnTo>
                    <a:pt x="361" y="284"/>
                  </a:lnTo>
                  <a:lnTo>
                    <a:pt x="354" y="296"/>
                  </a:lnTo>
                  <a:lnTo>
                    <a:pt x="347" y="307"/>
                  </a:lnTo>
                  <a:lnTo>
                    <a:pt x="337" y="317"/>
                  </a:lnTo>
                  <a:lnTo>
                    <a:pt x="326" y="327"/>
                  </a:lnTo>
                  <a:lnTo>
                    <a:pt x="315" y="335"/>
                  </a:lnTo>
                  <a:lnTo>
                    <a:pt x="302" y="342"/>
                  </a:lnTo>
                  <a:lnTo>
                    <a:pt x="288" y="349"/>
                  </a:lnTo>
                  <a:lnTo>
                    <a:pt x="272" y="356"/>
                  </a:lnTo>
                  <a:lnTo>
                    <a:pt x="255" y="360"/>
                  </a:lnTo>
                  <a:lnTo>
                    <a:pt x="240" y="365"/>
                  </a:lnTo>
                  <a:lnTo>
                    <a:pt x="221" y="369"/>
                  </a:lnTo>
                  <a:lnTo>
                    <a:pt x="203" y="370"/>
                  </a:lnTo>
                  <a:lnTo>
                    <a:pt x="185" y="372"/>
                  </a:lnTo>
                  <a:lnTo>
                    <a:pt x="165" y="370"/>
                  </a:lnTo>
                  <a:lnTo>
                    <a:pt x="147" y="369"/>
                  </a:lnTo>
                  <a:lnTo>
                    <a:pt x="128" y="365"/>
                  </a:lnTo>
                  <a:lnTo>
                    <a:pt x="111" y="360"/>
                  </a:lnTo>
                  <a:lnTo>
                    <a:pt x="96" y="356"/>
                  </a:lnTo>
                  <a:lnTo>
                    <a:pt x="80" y="349"/>
                  </a:lnTo>
                  <a:lnTo>
                    <a:pt x="66" y="342"/>
                  </a:lnTo>
                  <a:lnTo>
                    <a:pt x="54" y="335"/>
                  </a:lnTo>
                  <a:lnTo>
                    <a:pt x="41" y="327"/>
                  </a:lnTo>
                  <a:lnTo>
                    <a:pt x="31" y="317"/>
                  </a:lnTo>
                  <a:lnTo>
                    <a:pt x="21" y="307"/>
                  </a:lnTo>
                  <a:lnTo>
                    <a:pt x="14" y="296"/>
                  </a:lnTo>
                  <a:lnTo>
                    <a:pt x="7" y="284"/>
                  </a:lnTo>
                  <a:lnTo>
                    <a:pt x="3" y="273"/>
                  </a:lnTo>
                  <a:lnTo>
                    <a:pt x="0" y="260"/>
                  </a:lnTo>
                  <a:lnTo>
                    <a:pt x="0" y="248"/>
                  </a:lnTo>
                  <a:lnTo>
                    <a:pt x="0" y="0"/>
                  </a:lnTo>
                  <a:lnTo>
                    <a:pt x="370" y="0"/>
                  </a:lnTo>
                  <a:lnTo>
                    <a:pt x="370" y="248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840" y="2286000"/>
              <a:ext cx="1066320" cy="644760"/>
            </a:xfrm>
            <a:custGeom>
              <a:avLst/>
              <a:gdLst/>
              <a:ahLst/>
              <a:rect l="l" t="t" r="r" b="b"/>
              <a:pathLst>
                <a:path w="371" h="247">
                  <a:moveTo>
                    <a:pt x="0" y="123"/>
                  </a:moveTo>
                  <a:lnTo>
                    <a:pt x="0" y="110"/>
                  </a:lnTo>
                  <a:lnTo>
                    <a:pt x="3" y="97"/>
                  </a:lnTo>
                  <a:lnTo>
                    <a:pt x="7" y="86"/>
                  </a:lnTo>
                  <a:lnTo>
                    <a:pt x="14" y="75"/>
                  </a:lnTo>
                  <a:lnTo>
                    <a:pt x="21" y="64"/>
                  </a:lnTo>
                  <a:lnTo>
                    <a:pt x="31" y="54"/>
                  </a:lnTo>
                  <a:lnTo>
                    <a:pt x="41" y="44"/>
                  </a:lnTo>
                  <a:lnTo>
                    <a:pt x="54" y="35"/>
                  </a:lnTo>
                  <a:lnTo>
                    <a:pt x="66" y="28"/>
                  </a:lnTo>
                  <a:lnTo>
                    <a:pt x="80" y="21"/>
                  </a:lnTo>
                  <a:lnTo>
                    <a:pt x="96" y="14"/>
                  </a:lnTo>
                  <a:lnTo>
                    <a:pt x="111" y="10"/>
                  </a:lnTo>
                  <a:lnTo>
                    <a:pt x="128" y="6"/>
                  </a:lnTo>
                  <a:lnTo>
                    <a:pt x="147" y="1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3" y="0"/>
                  </a:lnTo>
                  <a:lnTo>
                    <a:pt x="221" y="1"/>
                  </a:lnTo>
                  <a:lnTo>
                    <a:pt x="240" y="6"/>
                  </a:lnTo>
                  <a:lnTo>
                    <a:pt x="255" y="10"/>
                  </a:lnTo>
                  <a:lnTo>
                    <a:pt x="272" y="14"/>
                  </a:lnTo>
                  <a:lnTo>
                    <a:pt x="288" y="21"/>
                  </a:lnTo>
                  <a:lnTo>
                    <a:pt x="302" y="28"/>
                  </a:lnTo>
                  <a:lnTo>
                    <a:pt x="315" y="35"/>
                  </a:lnTo>
                  <a:lnTo>
                    <a:pt x="326" y="44"/>
                  </a:lnTo>
                  <a:lnTo>
                    <a:pt x="337" y="54"/>
                  </a:lnTo>
                  <a:lnTo>
                    <a:pt x="347" y="64"/>
                  </a:lnTo>
                  <a:lnTo>
                    <a:pt x="354" y="75"/>
                  </a:lnTo>
                  <a:lnTo>
                    <a:pt x="361" y="86"/>
                  </a:lnTo>
                  <a:lnTo>
                    <a:pt x="365" y="97"/>
                  </a:lnTo>
                  <a:lnTo>
                    <a:pt x="368" y="110"/>
                  </a:lnTo>
                  <a:lnTo>
                    <a:pt x="370" y="123"/>
                  </a:lnTo>
                  <a:lnTo>
                    <a:pt x="368" y="135"/>
                  </a:lnTo>
                  <a:lnTo>
                    <a:pt x="365" y="147"/>
                  </a:lnTo>
                  <a:lnTo>
                    <a:pt x="361" y="159"/>
                  </a:lnTo>
                  <a:lnTo>
                    <a:pt x="354" y="171"/>
                  </a:lnTo>
                  <a:lnTo>
                    <a:pt x="347" y="181"/>
                  </a:lnTo>
                  <a:lnTo>
                    <a:pt x="337" y="191"/>
                  </a:lnTo>
                  <a:lnTo>
                    <a:pt x="326" y="200"/>
                  </a:lnTo>
                  <a:lnTo>
                    <a:pt x="315" y="209"/>
                  </a:lnTo>
                  <a:lnTo>
                    <a:pt x="302" y="217"/>
                  </a:lnTo>
                  <a:lnTo>
                    <a:pt x="288" y="224"/>
                  </a:lnTo>
                  <a:lnTo>
                    <a:pt x="272" y="230"/>
                  </a:lnTo>
                  <a:lnTo>
                    <a:pt x="255" y="236"/>
                  </a:lnTo>
                  <a:lnTo>
                    <a:pt x="240" y="239"/>
                  </a:lnTo>
                  <a:lnTo>
                    <a:pt x="221" y="243"/>
                  </a:lnTo>
                  <a:lnTo>
                    <a:pt x="203" y="244"/>
                  </a:lnTo>
                  <a:lnTo>
                    <a:pt x="185" y="246"/>
                  </a:lnTo>
                  <a:lnTo>
                    <a:pt x="165" y="244"/>
                  </a:lnTo>
                  <a:lnTo>
                    <a:pt x="147" y="243"/>
                  </a:lnTo>
                  <a:lnTo>
                    <a:pt x="128" y="239"/>
                  </a:lnTo>
                  <a:lnTo>
                    <a:pt x="111" y="236"/>
                  </a:lnTo>
                  <a:lnTo>
                    <a:pt x="96" y="230"/>
                  </a:lnTo>
                  <a:lnTo>
                    <a:pt x="80" y="224"/>
                  </a:lnTo>
                  <a:lnTo>
                    <a:pt x="66" y="217"/>
                  </a:lnTo>
                  <a:lnTo>
                    <a:pt x="54" y="209"/>
                  </a:lnTo>
                  <a:lnTo>
                    <a:pt x="41" y="200"/>
                  </a:lnTo>
                  <a:lnTo>
                    <a:pt x="31" y="191"/>
                  </a:lnTo>
                  <a:lnTo>
                    <a:pt x="21" y="181"/>
                  </a:lnTo>
                  <a:lnTo>
                    <a:pt x="14" y="171"/>
                  </a:lnTo>
                  <a:lnTo>
                    <a:pt x="7" y="159"/>
                  </a:lnTo>
                  <a:lnTo>
                    <a:pt x="3" y="147"/>
                  </a:lnTo>
                  <a:lnTo>
                    <a:pt x="0" y="135"/>
                  </a:lnTo>
                  <a:lnTo>
                    <a:pt x="0" y="123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9" name=""/>
          <p:cNvSpPr/>
          <p:nvPr/>
        </p:nvSpPr>
        <p:spPr>
          <a:xfrm>
            <a:off x="6970320" y="3709800"/>
            <a:ext cx="72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HTTP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7696080" y="3162240"/>
            <a:ext cx="1371600" cy="1371600"/>
            <a:chOff x="7696080" y="3162240"/>
            <a:chExt cx="1371600" cy="1371600"/>
          </a:xfrm>
        </p:grpSpPr>
        <p:sp>
          <p:nvSpPr>
            <p:cNvPr id="411" name=""/>
            <p:cNvSpPr/>
            <p:nvPr/>
          </p:nvSpPr>
          <p:spPr>
            <a:xfrm>
              <a:off x="7696080" y="3162240"/>
              <a:ext cx="1371600" cy="137160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762760" y="3162240"/>
              <a:ext cx="304920" cy="3049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772040" y="3314880"/>
              <a:ext cx="91440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772040" y="3695760"/>
              <a:ext cx="12193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51680" y="3809160"/>
              <a:ext cx="874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HTM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16" name=""/>
          <p:cNvSpPr/>
          <p:nvPr/>
        </p:nvSpPr>
        <p:spPr>
          <a:xfrm>
            <a:off x="1067760" y="60951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DBC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54360" y="181620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54360" y="421632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355680" y="3962520"/>
            <a:ext cx="1066320" cy="1294560"/>
            <a:chOff x="355680" y="3962520"/>
            <a:chExt cx="1066320" cy="1294560"/>
          </a:xfrm>
        </p:grpSpPr>
        <p:sp>
          <p:nvSpPr>
            <p:cNvPr id="420" name=""/>
            <p:cNvSpPr/>
            <p:nvPr/>
          </p:nvSpPr>
          <p:spPr>
            <a:xfrm>
              <a:off x="355680" y="4283280"/>
              <a:ext cx="1066320" cy="973800"/>
            </a:xfrm>
            <a:custGeom>
              <a:avLst/>
              <a:gdLst/>
              <a:ahLst/>
              <a:rect l="l" t="t" r="r" b="b"/>
              <a:pathLst>
                <a:path w="371" h="373">
                  <a:moveTo>
                    <a:pt x="370" y="248"/>
                  </a:moveTo>
                  <a:lnTo>
                    <a:pt x="368" y="260"/>
                  </a:lnTo>
                  <a:lnTo>
                    <a:pt x="365" y="273"/>
                  </a:lnTo>
                  <a:lnTo>
                    <a:pt x="361" y="284"/>
                  </a:lnTo>
                  <a:lnTo>
                    <a:pt x="354" y="296"/>
                  </a:lnTo>
                  <a:lnTo>
                    <a:pt x="347" y="307"/>
                  </a:lnTo>
                  <a:lnTo>
                    <a:pt x="337" y="317"/>
                  </a:lnTo>
                  <a:lnTo>
                    <a:pt x="326" y="327"/>
                  </a:lnTo>
                  <a:lnTo>
                    <a:pt x="315" y="335"/>
                  </a:lnTo>
                  <a:lnTo>
                    <a:pt x="302" y="342"/>
                  </a:lnTo>
                  <a:lnTo>
                    <a:pt x="288" y="349"/>
                  </a:lnTo>
                  <a:lnTo>
                    <a:pt x="272" y="356"/>
                  </a:lnTo>
                  <a:lnTo>
                    <a:pt x="255" y="360"/>
                  </a:lnTo>
                  <a:lnTo>
                    <a:pt x="240" y="365"/>
                  </a:lnTo>
                  <a:lnTo>
                    <a:pt x="221" y="369"/>
                  </a:lnTo>
                  <a:lnTo>
                    <a:pt x="203" y="370"/>
                  </a:lnTo>
                  <a:lnTo>
                    <a:pt x="185" y="372"/>
                  </a:lnTo>
                  <a:lnTo>
                    <a:pt x="165" y="370"/>
                  </a:lnTo>
                  <a:lnTo>
                    <a:pt x="147" y="369"/>
                  </a:lnTo>
                  <a:lnTo>
                    <a:pt x="128" y="365"/>
                  </a:lnTo>
                  <a:lnTo>
                    <a:pt x="111" y="360"/>
                  </a:lnTo>
                  <a:lnTo>
                    <a:pt x="96" y="356"/>
                  </a:lnTo>
                  <a:lnTo>
                    <a:pt x="80" y="349"/>
                  </a:lnTo>
                  <a:lnTo>
                    <a:pt x="66" y="342"/>
                  </a:lnTo>
                  <a:lnTo>
                    <a:pt x="54" y="335"/>
                  </a:lnTo>
                  <a:lnTo>
                    <a:pt x="41" y="327"/>
                  </a:lnTo>
                  <a:lnTo>
                    <a:pt x="31" y="317"/>
                  </a:lnTo>
                  <a:lnTo>
                    <a:pt x="21" y="307"/>
                  </a:lnTo>
                  <a:lnTo>
                    <a:pt x="14" y="296"/>
                  </a:lnTo>
                  <a:lnTo>
                    <a:pt x="7" y="284"/>
                  </a:lnTo>
                  <a:lnTo>
                    <a:pt x="3" y="273"/>
                  </a:lnTo>
                  <a:lnTo>
                    <a:pt x="0" y="260"/>
                  </a:lnTo>
                  <a:lnTo>
                    <a:pt x="0" y="248"/>
                  </a:lnTo>
                  <a:lnTo>
                    <a:pt x="0" y="0"/>
                  </a:lnTo>
                  <a:lnTo>
                    <a:pt x="370" y="0"/>
                  </a:lnTo>
                  <a:lnTo>
                    <a:pt x="370" y="248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55680" y="3962520"/>
              <a:ext cx="1066320" cy="644760"/>
            </a:xfrm>
            <a:custGeom>
              <a:avLst/>
              <a:gdLst/>
              <a:ahLst/>
              <a:rect l="l" t="t" r="r" b="b"/>
              <a:pathLst>
                <a:path w="371" h="247">
                  <a:moveTo>
                    <a:pt x="0" y="123"/>
                  </a:moveTo>
                  <a:lnTo>
                    <a:pt x="0" y="110"/>
                  </a:lnTo>
                  <a:lnTo>
                    <a:pt x="3" y="97"/>
                  </a:lnTo>
                  <a:lnTo>
                    <a:pt x="7" y="86"/>
                  </a:lnTo>
                  <a:lnTo>
                    <a:pt x="14" y="75"/>
                  </a:lnTo>
                  <a:lnTo>
                    <a:pt x="21" y="64"/>
                  </a:lnTo>
                  <a:lnTo>
                    <a:pt x="31" y="54"/>
                  </a:lnTo>
                  <a:lnTo>
                    <a:pt x="41" y="44"/>
                  </a:lnTo>
                  <a:lnTo>
                    <a:pt x="54" y="35"/>
                  </a:lnTo>
                  <a:lnTo>
                    <a:pt x="66" y="28"/>
                  </a:lnTo>
                  <a:lnTo>
                    <a:pt x="80" y="21"/>
                  </a:lnTo>
                  <a:lnTo>
                    <a:pt x="96" y="14"/>
                  </a:lnTo>
                  <a:lnTo>
                    <a:pt x="111" y="10"/>
                  </a:lnTo>
                  <a:lnTo>
                    <a:pt x="128" y="6"/>
                  </a:lnTo>
                  <a:lnTo>
                    <a:pt x="147" y="1"/>
                  </a:lnTo>
                  <a:lnTo>
                    <a:pt x="165" y="0"/>
                  </a:lnTo>
                  <a:lnTo>
                    <a:pt x="185" y="0"/>
                  </a:lnTo>
                  <a:lnTo>
                    <a:pt x="203" y="0"/>
                  </a:lnTo>
                  <a:lnTo>
                    <a:pt x="221" y="1"/>
                  </a:lnTo>
                  <a:lnTo>
                    <a:pt x="240" y="6"/>
                  </a:lnTo>
                  <a:lnTo>
                    <a:pt x="255" y="10"/>
                  </a:lnTo>
                  <a:lnTo>
                    <a:pt x="272" y="14"/>
                  </a:lnTo>
                  <a:lnTo>
                    <a:pt x="288" y="21"/>
                  </a:lnTo>
                  <a:lnTo>
                    <a:pt x="302" y="28"/>
                  </a:lnTo>
                  <a:lnTo>
                    <a:pt x="315" y="35"/>
                  </a:lnTo>
                  <a:lnTo>
                    <a:pt x="326" y="44"/>
                  </a:lnTo>
                  <a:lnTo>
                    <a:pt x="337" y="54"/>
                  </a:lnTo>
                  <a:lnTo>
                    <a:pt x="347" y="64"/>
                  </a:lnTo>
                  <a:lnTo>
                    <a:pt x="354" y="75"/>
                  </a:lnTo>
                  <a:lnTo>
                    <a:pt x="361" y="86"/>
                  </a:lnTo>
                  <a:lnTo>
                    <a:pt x="365" y="97"/>
                  </a:lnTo>
                  <a:lnTo>
                    <a:pt x="368" y="110"/>
                  </a:lnTo>
                  <a:lnTo>
                    <a:pt x="370" y="123"/>
                  </a:lnTo>
                  <a:lnTo>
                    <a:pt x="368" y="135"/>
                  </a:lnTo>
                  <a:lnTo>
                    <a:pt x="365" y="147"/>
                  </a:lnTo>
                  <a:lnTo>
                    <a:pt x="361" y="159"/>
                  </a:lnTo>
                  <a:lnTo>
                    <a:pt x="354" y="171"/>
                  </a:lnTo>
                  <a:lnTo>
                    <a:pt x="347" y="181"/>
                  </a:lnTo>
                  <a:lnTo>
                    <a:pt x="337" y="191"/>
                  </a:lnTo>
                  <a:lnTo>
                    <a:pt x="326" y="200"/>
                  </a:lnTo>
                  <a:lnTo>
                    <a:pt x="315" y="209"/>
                  </a:lnTo>
                  <a:lnTo>
                    <a:pt x="302" y="217"/>
                  </a:lnTo>
                  <a:lnTo>
                    <a:pt x="288" y="224"/>
                  </a:lnTo>
                  <a:lnTo>
                    <a:pt x="272" y="230"/>
                  </a:lnTo>
                  <a:lnTo>
                    <a:pt x="255" y="236"/>
                  </a:lnTo>
                  <a:lnTo>
                    <a:pt x="240" y="239"/>
                  </a:lnTo>
                  <a:lnTo>
                    <a:pt x="221" y="243"/>
                  </a:lnTo>
                  <a:lnTo>
                    <a:pt x="203" y="244"/>
                  </a:lnTo>
                  <a:lnTo>
                    <a:pt x="185" y="246"/>
                  </a:lnTo>
                  <a:lnTo>
                    <a:pt x="165" y="244"/>
                  </a:lnTo>
                  <a:lnTo>
                    <a:pt x="147" y="243"/>
                  </a:lnTo>
                  <a:lnTo>
                    <a:pt x="128" y="239"/>
                  </a:lnTo>
                  <a:lnTo>
                    <a:pt x="111" y="236"/>
                  </a:lnTo>
                  <a:lnTo>
                    <a:pt x="96" y="230"/>
                  </a:lnTo>
                  <a:lnTo>
                    <a:pt x="80" y="224"/>
                  </a:lnTo>
                  <a:lnTo>
                    <a:pt x="66" y="217"/>
                  </a:lnTo>
                  <a:lnTo>
                    <a:pt x="54" y="209"/>
                  </a:lnTo>
                  <a:lnTo>
                    <a:pt x="41" y="200"/>
                  </a:lnTo>
                  <a:lnTo>
                    <a:pt x="31" y="191"/>
                  </a:lnTo>
                  <a:lnTo>
                    <a:pt x="21" y="181"/>
                  </a:lnTo>
                  <a:lnTo>
                    <a:pt x="14" y="171"/>
                  </a:lnTo>
                  <a:lnTo>
                    <a:pt x="7" y="159"/>
                  </a:lnTo>
                  <a:lnTo>
                    <a:pt x="3" y="147"/>
                  </a:lnTo>
                  <a:lnTo>
                    <a:pt x="0" y="135"/>
                  </a:lnTo>
                  <a:lnTo>
                    <a:pt x="0" y="123"/>
                  </a:lnTo>
                </a:path>
              </a:pathLst>
            </a:custGeom>
            <a:gradFill rotWithShape="0">
              <a:gsLst>
                <a:gs pos="0">
                  <a:srgbClr val="2c2c2c"/>
                </a:gs>
                <a:gs pos="50000">
                  <a:srgbClr val="dddddd"/>
                </a:gs>
                <a:gs pos="100000">
                  <a:srgbClr val="2c2c2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5486400" y="3505320"/>
            <a:ext cx="800280" cy="83808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ou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324480" y="3886200"/>
            <a:ext cx="1371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140360" y="511812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140360" y="443232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HTT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54360" y="297180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854360" y="5448240"/>
            <a:ext cx="1066680" cy="647640"/>
          </a:xfrm>
          <a:prstGeom prst="rect">
            <a:avLst/>
          </a:prstGeom>
          <a:gradFill rotWithShape="0">
            <a:gsLst>
              <a:gs pos="0">
                <a:srgbClr val="002f46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705720" y="1828800"/>
            <a:ext cx="228600" cy="4343400"/>
          </a:xfrm>
          <a:custGeom>
            <a:avLst/>
            <a:gdLst>
              <a:gd name="textAreaLeft" fmla="*/ 26640 w 228600"/>
              <a:gd name="textAreaRight" fmla="*/ 201960 w 228600"/>
              <a:gd name="textAreaTop" fmla="*/ 26640 h 4343400"/>
              <a:gd name="textAreaBottom" fmla="*/ 4316760 h 4343400"/>
            </a:gdLst>
            <a:ahLst/>
            <a:rect l="textAreaLeft" t="textAreaTop" r="textAreaRight" b="textAreaBottom"/>
            <a:pathLst>
              <a:path w="21600" h="409789">
                <a:moveTo>
                  <a:pt x="3600" y="0"/>
                </a:moveTo>
                <a:arcTo wR="3600" hR="3600" stAng="0" swAng="5400000"/>
                <a:lnTo>
                  <a:pt x="0" y="406189"/>
                </a:lnTo>
                <a:arcTo wR="3600" hR="3600" stAng="16200000" swAng="5400000"/>
                <a:lnTo>
                  <a:pt x="18000" y="4097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5334120" y="2895480"/>
            <a:ext cx="3808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5257800" y="4267080"/>
            <a:ext cx="457200" cy="7621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5067000" y="4660200"/>
            <a:ext cx="266760" cy="3238560"/>
          </a:xfrm>
          <a:custGeom>
            <a:avLst/>
            <a:gdLst>
              <a:gd name="textAreaLeft" fmla="*/ 170640 w 266760"/>
              <a:gd name="textAreaRight" fmla="*/ 266760 w 266760"/>
              <a:gd name="textAreaTop" fmla="*/ 101160 h 3238560"/>
              <a:gd name="textAreaBottom" fmla="*/ 3137400 h 323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080"/>
                  <a:pt x="10800" y="2160"/>
                </a:cubicBezTo>
                <a:lnTo>
                  <a:pt x="10800" y="8325"/>
                </a:lnTo>
                <a:cubicBezTo>
                  <a:pt x="10800" y="9405"/>
                  <a:pt x="5400" y="10485"/>
                  <a:pt x="0" y="10485"/>
                </a:cubicBezTo>
                <a:cubicBezTo>
                  <a:pt x="5400" y="10485"/>
                  <a:pt x="10800" y="11565"/>
                  <a:pt x="10800" y="12645"/>
                </a:cubicBezTo>
                <a:lnTo>
                  <a:pt x="10800" y="19440"/>
                </a:lnTo>
                <a:cubicBezTo>
                  <a:pt x="10800" y="2052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781880" y="6361560"/>
            <a:ext cx="72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M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 flipH="1" flipV="1">
            <a:off x="3047760" y="2133360"/>
            <a:ext cx="1143000" cy="1143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flipH="1" flipV="1">
            <a:off x="3047760" y="3200400"/>
            <a:ext cx="114300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 flipH="1" flipV="1">
            <a:off x="3047760" y="4495680"/>
            <a:ext cx="1066680" cy="9144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3047760" y="5410080"/>
            <a:ext cx="1066680" cy="228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1447920" y="2209680"/>
            <a:ext cx="38088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1447920" y="2971440"/>
            <a:ext cx="380880" cy="152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 flipV="1">
            <a:off x="1447920" y="3200400"/>
            <a:ext cx="380880" cy="1295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 flipV="1">
            <a:off x="1447920" y="3276360"/>
            <a:ext cx="380880" cy="25146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914400" y="3581280"/>
            <a:ext cx="0" cy="609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479760" y="1828800"/>
            <a:ext cx="228600" cy="4343400"/>
          </a:xfrm>
          <a:custGeom>
            <a:avLst/>
            <a:gdLst>
              <a:gd name="textAreaLeft" fmla="*/ 26640 w 228600"/>
              <a:gd name="textAreaRight" fmla="*/ 201960 w 228600"/>
              <a:gd name="textAreaTop" fmla="*/ 26640 h 4343400"/>
              <a:gd name="textAreaBottom" fmla="*/ 4316760 h 4343400"/>
            </a:gdLst>
            <a:ahLst/>
            <a:rect l="textAreaLeft" t="textAreaTop" r="textAreaRight" b="textAreaBottom"/>
            <a:pathLst>
              <a:path w="21600" h="409789">
                <a:moveTo>
                  <a:pt x="3600" y="0"/>
                </a:moveTo>
                <a:arcTo wR="3600" hR="3600" stAng="0" swAng="5400000"/>
                <a:lnTo>
                  <a:pt x="0" y="406189"/>
                </a:lnTo>
                <a:arcTo wR="3600" hR="3600" stAng="16200000" swAng="5400000"/>
                <a:lnTo>
                  <a:pt x="18000" y="409789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990000"/>
              </a:gs>
              <a:gs pos="100000">
                <a:srgbClr val="46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W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e Inprise EJB Contain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 full EJB 1.1 implementation with support fo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ateless and Stateful Session Be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ean and Container Managed Entity Bea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mplemented over VisiBrok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is provides a high-performance robust EJB infrastructur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ull support for Java 2 Enterprise Edi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 Narrow"/>
              </a:rPr>
              <a:t>J2EE Requirements</a:t>
            </a:r>
            <a:endParaRPr b="1" lang="en-US" sz="48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46" name=""/>
          <p:cNvSpPr/>
          <p:nvPr/>
        </p:nvSpPr>
        <p:spPr>
          <a:xfrm>
            <a:off x="2666880" y="20574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RMI/IIO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666880" y="27432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EJB 1.1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666880" y="34290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rvle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666880" y="41148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JS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666880" y="48006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JNDI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666880" y="54864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JTS/J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666880" y="6172200"/>
            <a:ext cx="3505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J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EJB Architectur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54" name=""/>
          <p:cNvSpPr/>
          <p:nvPr/>
        </p:nvSpPr>
        <p:spPr>
          <a:xfrm>
            <a:off x="7067520" y="3352680"/>
            <a:ext cx="2076480" cy="16322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819520" y="3124080"/>
            <a:ext cx="3524040" cy="302904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100000">
                <a:srgbClr val="002f4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1257480" y="19051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105000" y="4724280"/>
            <a:ext cx="1314720" cy="127656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ss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ta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Servi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629240" y="4705200"/>
            <a:ext cx="1371600" cy="129564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JT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2 Phas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mm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629240" y="3257640"/>
            <a:ext cx="1333440" cy="129528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JN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Nami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105000" y="3257640"/>
            <a:ext cx="1314720" cy="130500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Contain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1219320" y="3733920"/>
            <a:ext cx="1143000" cy="1066680"/>
          </a:xfrm>
          <a:prstGeom prst="ellipse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0056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Ent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Bea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657600" y="3390840"/>
            <a:ext cx="228600" cy="22860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657600" y="4172040"/>
            <a:ext cx="228600" cy="228600"/>
          </a:xfrm>
          <a:prstGeom prst="ellipse">
            <a:avLst/>
          </a:prstGeom>
          <a:solidFill>
            <a:srgbClr val="000066"/>
          </a:solidFill>
          <a:ln w="0">
            <a:noFill/>
          </a:ln>
          <a:effectLst>
            <a:outerShdw dist="17819" dir="2700000" blurRad="0" rotWithShape="0">
              <a:srgbClr val="0000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 flipV="1">
            <a:off x="2362320" y="2666520"/>
            <a:ext cx="129528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 flipH="1">
            <a:off x="2362320" y="4267080"/>
            <a:ext cx="129528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219320" y="5372280"/>
            <a:ext cx="1218960" cy="1218960"/>
          </a:xfrm>
          <a:prstGeom prst="flowChartMagneticDisk">
            <a:avLst/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9360">
            <a:solidFill>
              <a:srgbClr val="ffff99"/>
            </a:solidFill>
            <a:miter/>
          </a:ln>
          <a:effectLst>
            <a:outerShdw dist="17819" dir="2700000" blurRad="0" rotWithShape="0">
              <a:srgbClr val="9898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Datab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1828800" y="4800600"/>
            <a:ext cx="0" cy="762120"/>
          </a:xfrm>
          <a:prstGeom prst="line">
            <a:avLst/>
          </a:prstGeom>
          <a:ln w="28440">
            <a:solidFill>
              <a:srgbClr val="ffff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019400" y="2311560"/>
            <a:ext cx="1143000" cy="76176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00423b"/>
              </a:gs>
              <a:gs pos="50000">
                <a:srgbClr val="009082"/>
              </a:gs>
              <a:gs pos="100000">
                <a:srgbClr val="00423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RMI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Narrow"/>
              </a:rPr>
              <a:t>IIO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9" name=""/>
          <p:cNvGrpSpPr/>
          <p:nvPr/>
        </p:nvGrpSpPr>
        <p:grpSpPr>
          <a:xfrm>
            <a:off x="5943600" y="3124080"/>
            <a:ext cx="2475360" cy="770040"/>
            <a:chOff x="5943600" y="3124080"/>
            <a:chExt cx="2475360" cy="770040"/>
          </a:xfrm>
        </p:grpSpPr>
        <p:sp>
          <p:nvSpPr>
            <p:cNvPr id="470" name=""/>
            <p:cNvSpPr/>
            <p:nvPr/>
          </p:nvSpPr>
          <p:spPr>
            <a:xfrm>
              <a:off x="7194600" y="3124080"/>
              <a:ext cx="1224360" cy="64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CosNam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LDA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flipH="1">
              <a:off x="5943600" y="3436920"/>
              <a:ext cx="1295280" cy="457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2" name=""/>
          <p:cNvGrpSpPr/>
          <p:nvPr/>
        </p:nvGrpSpPr>
        <p:grpSpPr>
          <a:xfrm>
            <a:off x="6019560" y="4865760"/>
            <a:ext cx="2716920" cy="915480"/>
            <a:chOff x="6019560" y="4865760"/>
            <a:chExt cx="2716920" cy="915480"/>
          </a:xfrm>
        </p:grpSpPr>
        <p:sp>
          <p:nvSpPr>
            <p:cNvPr id="473" name=""/>
            <p:cNvSpPr/>
            <p:nvPr/>
          </p:nvSpPr>
          <p:spPr>
            <a:xfrm>
              <a:off x="7035120" y="4865760"/>
              <a:ext cx="1701360" cy="915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CosTransaction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Distribu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2 Phase Commi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6019560" y="5334120"/>
              <a:ext cx="99036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4876920" y="1262160"/>
            <a:ext cx="3842640" cy="1404720"/>
            <a:chOff x="4876920" y="1262160"/>
            <a:chExt cx="3842640" cy="1404720"/>
          </a:xfrm>
        </p:grpSpPr>
        <p:sp>
          <p:nvSpPr>
            <p:cNvPr id="476" name=""/>
            <p:cNvSpPr/>
            <p:nvPr/>
          </p:nvSpPr>
          <p:spPr>
            <a:xfrm>
              <a:off x="7007400" y="1262160"/>
              <a:ext cx="1712160" cy="64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CORBA 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Objects By Valu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4876920" y="1752480"/>
              <a:ext cx="2133360" cy="9144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5028840" y="2057400"/>
            <a:ext cx="3600360" cy="833400"/>
            <a:chOff x="5028840" y="2057400"/>
            <a:chExt cx="3600360" cy="833400"/>
          </a:xfrm>
        </p:grpSpPr>
        <p:sp>
          <p:nvSpPr>
            <p:cNvPr id="479" name=""/>
            <p:cNvSpPr/>
            <p:nvPr/>
          </p:nvSpPr>
          <p:spPr>
            <a:xfrm flipH="1">
              <a:off x="5028840" y="2433600"/>
              <a:ext cx="2057400" cy="45720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072560" y="2057400"/>
              <a:ext cx="1556640" cy="641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IIOP/SS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Access Contro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81" name=""/>
          <p:cNvGrpSpPr/>
          <p:nvPr/>
        </p:nvGrpSpPr>
        <p:grpSpPr>
          <a:xfrm>
            <a:off x="4114440" y="5943600"/>
            <a:ext cx="3358800" cy="671760"/>
            <a:chOff x="4114440" y="5943600"/>
            <a:chExt cx="3358800" cy="671760"/>
          </a:xfrm>
        </p:grpSpPr>
        <p:sp>
          <p:nvSpPr>
            <p:cNvPr id="482" name=""/>
            <p:cNvSpPr/>
            <p:nvPr/>
          </p:nvSpPr>
          <p:spPr>
            <a:xfrm flipH="1" flipV="1">
              <a:off x="4114440" y="5943600"/>
              <a:ext cx="762120" cy="38088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682160" y="6248520"/>
              <a:ext cx="2791080" cy="3668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Based on all Java JDataSt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4" name=""/>
          <p:cNvSpPr/>
          <p:nvPr/>
        </p:nvSpPr>
        <p:spPr>
          <a:xfrm>
            <a:off x="3124080" y="1752480"/>
            <a:ext cx="2895840" cy="495360"/>
          </a:xfrm>
          <a:prstGeom prst="rect">
            <a:avLst/>
          </a:prstGeom>
          <a:solidFill>
            <a:srgbClr val="33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Language Independent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ppServer - EJB Requirement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Container based on VisiBroker 4.0, I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Builder Support for building EJB component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ools support to construct HTML clients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ight Web Server Integ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ervlets, JSP, EJB Serv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ppCenter and Console Suppor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Deploy and manage EJB servers + serv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Open and Extensible Architectur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50880" y="1611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RBA infrastructure based on VisiBroker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isting EJB/CORBA applications can use CORBA Services 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upport for heterogeneous environm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calability and Performan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buted Environ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ecurit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calability and Performanc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timized thread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hread pool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Optimized connection manage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ultiplexing of TCP connec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Load balanc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luster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Replicated serv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atabase connection pool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>
    <p:dissolv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ntity Bean Transaction Manage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58720" y="2057040"/>
            <a:ext cx="8229600" cy="3390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esigned to handle distributed transac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s ACID propertie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s Distributed 2 Phase Commi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DBC Connection Pool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20480" indent="-420480">
              <a:lnSpc>
                <a:spcPct val="13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xtremely Scalable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transition spd="slow"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Distributed Environ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-447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Naming service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JNDI interface, LDAP, Cluster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47840" indent="-44784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buted environment across serv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Transactions can be distributed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an partition any number of beans in any number of containers on any number of machin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eplicated servers/Fault toleranc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-33120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Load balanc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8913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4013280" y="4876920"/>
            <a:ext cx="279360" cy="380880"/>
          </a:xfrm>
          <a:prstGeom prst="rect">
            <a:avLst/>
          </a:prstGeom>
          <a:gradFill rotWithShape="0">
            <a:gsLst>
              <a:gs pos="0">
                <a:srgbClr val="000050"/>
              </a:gs>
              <a:gs pos="50000">
                <a:srgbClr val="000066"/>
              </a:gs>
              <a:gs pos="100000">
                <a:srgbClr val="000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394160" y="5041800"/>
            <a:ext cx="609480" cy="749520"/>
          </a:xfrm>
          <a:prstGeom prst="rect">
            <a:avLst/>
          </a:prstGeom>
          <a:gradFill rotWithShape="0">
            <a:gsLst>
              <a:gs pos="0">
                <a:srgbClr val="00423b"/>
              </a:gs>
              <a:gs pos="100000">
                <a:srgbClr val="009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5181480" y="4863960"/>
            <a:ext cx="228600" cy="381240"/>
          </a:xfrm>
          <a:prstGeom prst="rect">
            <a:avLst/>
          </a:prstGeom>
          <a:gradFill rotWithShape="0">
            <a:gsLst>
              <a:gs pos="0">
                <a:srgbClr val="000050"/>
              </a:gs>
              <a:gs pos="50000">
                <a:srgbClr val="000066"/>
              </a:gs>
              <a:gs pos="100000">
                <a:srgbClr val="000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895480" y="4851360"/>
            <a:ext cx="228600" cy="380880"/>
          </a:xfrm>
          <a:prstGeom prst="rect">
            <a:avLst/>
          </a:prstGeom>
          <a:gradFill rotWithShape="0">
            <a:gsLst>
              <a:gs pos="0">
                <a:srgbClr val="000050"/>
              </a:gs>
              <a:gs pos="50000">
                <a:srgbClr val="000066"/>
              </a:gs>
              <a:gs pos="100000">
                <a:srgbClr val="000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JNDI Implementation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00" name=""/>
          <p:cNvSpPr/>
          <p:nvPr/>
        </p:nvSpPr>
        <p:spPr>
          <a:xfrm>
            <a:off x="2895480" y="2133720"/>
            <a:ext cx="3505320" cy="380880"/>
          </a:xfrm>
          <a:prstGeom prst="rect">
            <a:avLst/>
          </a:prstGeom>
          <a:gradFill rotWithShape="0">
            <a:gsLst>
              <a:gs pos="0">
                <a:srgbClr val="460000"/>
              </a:gs>
              <a:gs pos="100000">
                <a:srgbClr val="99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ava Applicatio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2895480" y="3251160"/>
            <a:ext cx="3505320" cy="40644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NDI A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2895480" y="3898800"/>
            <a:ext cx="3505320" cy="38124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Naming Manag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648320" y="2514600"/>
            <a:ext cx="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3200400" y="5054760"/>
            <a:ext cx="609480" cy="736560"/>
          </a:xfrm>
          <a:prstGeom prst="rect">
            <a:avLst/>
          </a:prstGeom>
          <a:gradFill rotWithShape="0">
            <a:gsLst>
              <a:gs pos="0">
                <a:srgbClr val="00423b"/>
              </a:gs>
              <a:gs pos="100000">
                <a:srgbClr val="009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163320" y="5078880"/>
            <a:ext cx="717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Namin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343400" y="5244120"/>
            <a:ext cx="71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LDAP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5460840" y="5016600"/>
            <a:ext cx="609840" cy="749160"/>
          </a:xfrm>
          <a:prstGeom prst="rect">
            <a:avLst/>
          </a:prstGeom>
          <a:gradFill rotWithShape="0">
            <a:gsLst>
              <a:gs pos="0">
                <a:srgbClr val="00423b"/>
              </a:gs>
              <a:gs pos="100000">
                <a:srgbClr val="00908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2200" y="4863960"/>
            <a:ext cx="216000" cy="381240"/>
          </a:xfrm>
          <a:prstGeom prst="rect">
            <a:avLst/>
          </a:prstGeom>
          <a:gradFill rotWithShape="0">
            <a:gsLst>
              <a:gs pos="0">
                <a:srgbClr val="000050"/>
              </a:gs>
              <a:gs pos="50000">
                <a:srgbClr val="000066"/>
              </a:gs>
              <a:gs pos="100000">
                <a:srgbClr val="00005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895480" y="4483080"/>
            <a:ext cx="3505320" cy="368280"/>
          </a:xfrm>
          <a:prstGeom prst="rect">
            <a:avLst/>
          </a:prstGeom>
          <a:gradFill rotWithShape="0">
            <a:gsLst>
              <a:gs pos="0">
                <a:srgbClr val="42428d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JNDI SP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408280" y="5028120"/>
            <a:ext cx="724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ust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Ifac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Solution: 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d on distributed object and component technology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Based on EJ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or easily building server side compon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Based on CORBA for scalability and reliabilit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Supporting multiple client interfaces to Application Server (business logic) via Web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2438280" y="4343400"/>
            <a:ext cx="4572000" cy="236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276720" y="5181480"/>
            <a:ext cx="3657600" cy="129564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Security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plete EJB security and authorization framework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601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Complies with EJB Specification 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etCallerPrincipal() which queries the identity of the current methods caller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317600" indent="-264960">
              <a:spcBef>
                <a:spcPts val="601"/>
              </a:spcBef>
              <a:buClr>
                <a:srgbClr val="3366ff"/>
              </a:buClr>
              <a:buSzPct val="9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getCallerInRole() which checks a callers role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15" name=""/>
          <p:cNvSpPr/>
          <p:nvPr/>
        </p:nvSpPr>
        <p:spPr>
          <a:xfrm>
            <a:off x="2664720" y="4495320"/>
            <a:ext cx="138888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ain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3426840" y="5257440"/>
            <a:ext cx="14742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crip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876920" y="5486400"/>
            <a:ext cx="1981080" cy="9144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essControlEntri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28600" y="5638680"/>
            <a:ext cx="22096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5200" y="5638320"/>
            <a:ext cx="113616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dent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7160" y="5105160"/>
            <a:ext cx="1168200" cy="45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qu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648320" y="4572000"/>
            <a:ext cx="761760" cy="3808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4800600" y="4724280"/>
            <a:ext cx="762120" cy="3812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181480" y="4648320"/>
            <a:ext cx="762120" cy="3808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486400" y="4572000"/>
            <a:ext cx="762120" cy="3808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743200" y="5867280"/>
            <a:ext cx="251460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622200">
            <a:off x="2968920" y="6019920"/>
            <a:ext cx="1878120" cy="366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Is access allowed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1447920" y="2514600"/>
            <a:ext cx="6324480" cy="327672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A Fully Distributed EJB Solution</a:t>
            </a:r>
            <a:endParaRPr b="1" lang="en-US" sz="40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529" name=""/>
          <p:cNvSpPr/>
          <p:nvPr/>
        </p:nvSpPr>
        <p:spPr>
          <a:xfrm>
            <a:off x="7067520" y="3352680"/>
            <a:ext cx="2076480" cy="1632240"/>
          </a:xfrm>
          <a:prstGeom prst="roundRect">
            <a:avLst>
              <a:gd name="adj" fmla="val 12495"/>
            </a:avLst>
          </a:prstGeom>
          <a:noFill/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0" name=""/>
          <p:cNvGrpSpPr/>
          <p:nvPr/>
        </p:nvGrpSpPr>
        <p:grpSpPr>
          <a:xfrm>
            <a:off x="5162400" y="1295280"/>
            <a:ext cx="1599840" cy="2438280"/>
            <a:chOff x="5162400" y="1295280"/>
            <a:chExt cx="1599840" cy="2438280"/>
          </a:xfrm>
        </p:grpSpPr>
        <p:grpSp>
          <p:nvGrpSpPr>
            <p:cNvPr id="531" name=""/>
            <p:cNvGrpSpPr/>
            <p:nvPr/>
          </p:nvGrpSpPr>
          <p:grpSpPr>
            <a:xfrm>
              <a:off x="5162400" y="1295280"/>
              <a:ext cx="1599840" cy="2438280"/>
              <a:chOff x="5162400" y="1295280"/>
              <a:chExt cx="1599840" cy="2438280"/>
            </a:xfrm>
          </p:grpSpPr>
          <p:sp>
            <p:nvSpPr>
              <p:cNvPr id="532" name=""/>
              <p:cNvSpPr/>
              <p:nvPr/>
            </p:nvSpPr>
            <p:spPr>
              <a:xfrm>
                <a:off x="5162400" y="2491920"/>
                <a:ext cx="1599840" cy="124164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162400" y="1295280"/>
                <a:ext cx="1599840" cy="124164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162400" y="2049120"/>
                <a:ext cx="634320" cy="168444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794200" y="1777320"/>
                <a:ext cx="967680" cy="195624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364360" y="2354040"/>
                <a:ext cx="333360" cy="30888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162400" y="204912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635080" y="325548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359320" y="304992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491080" y="315288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283720" y="2443320"/>
                <a:ext cx="512640" cy="65304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635080" y="282636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635080" y="309420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44" name=""/>
            <p:cNvSpPr/>
            <p:nvPr/>
          </p:nvSpPr>
          <p:spPr>
            <a:xfrm>
              <a:off x="5867280" y="236232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Contain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5105520" y="4362480"/>
            <a:ext cx="1599840" cy="2437920"/>
            <a:chOff x="5105520" y="4362480"/>
            <a:chExt cx="1599840" cy="2437920"/>
          </a:xfrm>
        </p:grpSpPr>
        <p:grpSp>
          <p:nvGrpSpPr>
            <p:cNvPr id="546" name=""/>
            <p:cNvGrpSpPr/>
            <p:nvPr/>
          </p:nvGrpSpPr>
          <p:grpSpPr>
            <a:xfrm>
              <a:off x="5105520" y="4362480"/>
              <a:ext cx="1599840" cy="2437920"/>
              <a:chOff x="5105520" y="4362480"/>
              <a:chExt cx="1599840" cy="2437920"/>
            </a:xfrm>
          </p:grpSpPr>
          <p:sp>
            <p:nvSpPr>
              <p:cNvPr id="547" name=""/>
              <p:cNvSpPr/>
              <p:nvPr/>
            </p:nvSpPr>
            <p:spPr>
              <a:xfrm>
                <a:off x="5105520" y="555876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105520" y="436248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105520" y="511632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737320" y="484416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307480" y="542088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105520" y="511632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578200" y="632232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302440" y="611676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434200" y="621972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226840" y="551052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578200" y="589320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578200" y="616104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59" name=""/>
            <p:cNvSpPr/>
            <p:nvPr/>
          </p:nvSpPr>
          <p:spPr>
            <a:xfrm>
              <a:off x="5791320" y="5429160"/>
              <a:ext cx="838440" cy="83808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Container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60" name=""/>
          <p:cNvGrpSpPr/>
          <p:nvPr/>
        </p:nvGrpSpPr>
        <p:grpSpPr>
          <a:xfrm>
            <a:off x="2419200" y="1333440"/>
            <a:ext cx="1599840" cy="2437920"/>
            <a:chOff x="2419200" y="1333440"/>
            <a:chExt cx="1599840" cy="2437920"/>
          </a:xfrm>
        </p:grpSpPr>
        <p:grpSp>
          <p:nvGrpSpPr>
            <p:cNvPr id="561" name=""/>
            <p:cNvGrpSpPr/>
            <p:nvPr/>
          </p:nvGrpSpPr>
          <p:grpSpPr>
            <a:xfrm>
              <a:off x="2419200" y="1333440"/>
              <a:ext cx="1599840" cy="2437920"/>
              <a:chOff x="2419200" y="1333440"/>
              <a:chExt cx="1599840" cy="2437920"/>
            </a:xfrm>
          </p:grpSpPr>
          <p:sp>
            <p:nvSpPr>
              <p:cNvPr id="562" name=""/>
              <p:cNvSpPr/>
              <p:nvPr/>
            </p:nvSpPr>
            <p:spPr>
              <a:xfrm>
                <a:off x="2419200" y="252972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419200" y="133344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2419200" y="208728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051000" y="181512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621160" y="239184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419200" y="208728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891880" y="329328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616120" y="308772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747880" y="319068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2540520" y="248148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2891880" y="286416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2891880" y="313200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4" name=""/>
            <p:cNvSpPr/>
            <p:nvPr/>
          </p:nvSpPr>
          <p:spPr>
            <a:xfrm>
              <a:off x="3105000" y="2400120"/>
              <a:ext cx="857160" cy="8384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JND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Naming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75" name=""/>
          <p:cNvGrpSpPr/>
          <p:nvPr/>
        </p:nvGrpSpPr>
        <p:grpSpPr>
          <a:xfrm>
            <a:off x="304920" y="2590920"/>
            <a:ext cx="1599840" cy="2437920"/>
            <a:chOff x="304920" y="2590920"/>
            <a:chExt cx="1599840" cy="2437920"/>
          </a:xfrm>
        </p:grpSpPr>
        <p:grpSp>
          <p:nvGrpSpPr>
            <p:cNvPr id="576" name=""/>
            <p:cNvGrpSpPr/>
            <p:nvPr/>
          </p:nvGrpSpPr>
          <p:grpSpPr>
            <a:xfrm>
              <a:off x="304920" y="2590920"/>
              <a:ext cx="1599840" cy="2437920"/>
              <a:chOff x="304920" y="2590920"/>
              <a:chExt cx="1599840" cy="2437920"/>
            </a:xfrm>
          </p:grpSpPr>
          <p:sp>
            <p:nvSpPr>
              <p:cNvPr id="577" name=""/>
              <p:cNvSpPr/>
              <p:nvPr/>
            </p:nvSpPr>
            <p:spPr>
              <a:xfrm>
                <a:off x="304920" y="378720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04920" y="259092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04920" y="334476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936720" y="307260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06880" y="364932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04920" y="334476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777600" y="455076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01840" y="434520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633600" y="444816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426240" y="373896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77600" y="412164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77600" y="438948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9" name=""/>
            <p:cNvSpPr/>
            <p:nvPr/>
          </p:nvSpPr>
          <p:spPr>
            <a:xfrm>
              <a:off x="990720" y="3657600"/>
              <a:ext cx="857520" cy="8377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Storag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590" name=""/>
          <p:cNvGrpSpPr/>
          <p:nvPr/>
        </p:nvGrpSpPr>
        <p:grpSpPr>
          <a:xfrm>
            <a:off x="2381400" y="4419720"/>
            <a:ext cx="1619280" cy="2437920"/>
            <a:chOff x="2381400" y="4419720"/>
            <a:chExt cx="1619280" cy="2437920"/>
          </a:xfrm>
        </p:grpSpPr>
        <p:grpSp>
          <p:nvGrpSpPr>
            <p:cNvPr id="591" name=""/>
            <p:cNvGrpSpPr/>
            <p:nvPr/>
          </p:nvGrpSpPr>
          <p:grpSpPr>
            <a:xfrm>
              <a:off x="2381400" y="4419720"/>
              <a:ext cx="1599840" cy="2437920"/>
              <a:chOff x="2381400" y="4419720"/>
              <a:chExt cx="1599840" cy="2437920"/>
            </a:xfrm>
          </p:grpSpPr>
          <p:sp>
            <p:nvSpPr>
              <p:cNvPr id="592" name=""/>
              <p:cNvSpPr/>
              <p:nvPr/>
            </p:nvSpPr>
            <p:spPr>
              <a:xfrm>
                <a:off x="2381400" y="561600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2381400" y="441972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2381400" y="517356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3013200" y="490140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583360" y="547812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2381400" y="517356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2854080" y="637956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2578320" y="617400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2710080" y="627696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2502720" y="556776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2854080" y="595044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2854080" y="621828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04" name=""/>
            <p:cNvSpPr/>
            <p:nvPr/>
          </p:nvSpPr>
          <p:spPr>
            <a:xfrm>
              <a:off x="3143160" y="5410080"/>
              <a:ext cx="857520" cy="85752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JTS/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05" name=""/>
          <p:cNvGrpSpPr/>
          <p:nvPr/>
        </p:nvGrpSpPr>
        <p:grpSpPr>
          <a:xfrm>
            <a:off x="7238880" y="2895480"/>
            <a:ext cx="1599840" cy="2437920"/>
            <a:chOff x="7238880" y="2895480"/>
            <a:chExt cx="1599840" cy="2437920"/>
          </a:xfrm>
        </p:grpSpPr>
        <p:grpSp>
          <p:nvGrpSpPr>
            <p:cNvPr id="606" name=""/>
            <p:cNvGrpSpPr/>
            <p:nvPr/>
          </p:nvGrpSpPr>
          <p:grpSpPr>
            <a:xfrm>
              <a:off x="7238880" y="2895480"/>
              <a:ext cx="1599840" cy="2437920"/>
              <a:chOff x="7238880" y="2895480"/>
              <a:chExt cx="1599840" cy="2437920"/>
            </a:xfrm>
          </p:grpSpPr>
          <p:sp>
            <p:nvSpPr>
              <p:cNvPr id="607" name=""/>
              <p:cNvSpPr/>
              <p:nvPr/>
            </p:nvSpPr>
            <p:spPr>
              <a:xfrm>
                <a:off x="7238880" y="409176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7238880" y="2895480"/>
                <a:ext cx="1599840" cy="1241280"/>
              </a:xfrm>
              <a:custGeom>
                <a:avLst/>
                <a:gdLst/>
                <a:ahLst/>
                <a:rect l="l" t="t" r="r" b="b"/>
                <a:pathLst>
                  <a:path w="633" h="639">
                    <a:moveTo>
                      <a:pt x="383" y="0"/>
                    </a:moveTo>
                    <a:lnTo>
                      <a:pt x="632" y="250"/>
                    </a:lnTo>
                    <a:lnTo>
                      <a:pt x="248" y="638"/>
                    </a:lnTo>
                    <a:lnTo>
                      <a:pt x="0" y="387"/>
                    </a:lnTo>
                    <a:lnTo>
                      <a:pt x="383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238880" y="3649320"/>
                <a:ext cx="634320" cy="1684080"/>
              </a:xfrm>
              <a:custGeom>
                <a:avLst/>
                <a:gdLst/>
                <a:ahLst/>
                <a:rect l="l" t="t" r="r" b="b"/>
                <a:pathLst>
                  <a:path w="251" h="867">
                    <a:moveTo>
                      <a:pt x="0" y="0"/>
                    </a:moveTo>
                    <a:lnTo>
                      <a:pt x="250" y="250"/>
                    </a:lnTo>
                    <a:lnTo>
                      <a:pt x="250" y="866"/>
                    </a:lnTo>
                    <a:lnTo>
                      <a:pt x="0" y="6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870680" y="3377160"/>
                <a:ext cx="967680" cy="1955880"/>
              </a:xfrm>
              <a:custGeom>
                <a:avLst/>
                <a:gdLst/>
                <a:ahLst/>
                <a:rect l="l" t="t" r="r" b="b"/>
                <a:pathLst>
                  <a:path w="383" h="1007">
                    <a:moveTo>
                      <a:pt x="0" y="388"/>
                    </a:moveTo>
                    <a:lnTo>
                      <a:pt x="382" y="0"/>
                    </a:lnTo>
                    <a:lnTo>
                      <a:pt x="382" y="617"/>
                    </a:lnTo>
                    <a:lnTo>
                      <a:pt x="0" y="1006"/>
                    </a:lnTo>
                    <a:lnTo>
                      <a:pt x="0" y="38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440840" y="3953880"/>
                <a:ext cx="333360" cy="308520"/>
              </a:xfrm>
              <a:custGeom>
                <a:avLst/>
                <a:gdLst/>
                <a:ahLst/>
                <a:rect l="l" t="t" r="r" b="b"/>
                <a:pathLst>
                  <a:path w="132" h="159">
                    <a:moveTo>
                      <a:pt x="0" y="0"/>
                    </a:moveTo>
                    <a:lnTo>
                      <a:pt x="131" y="132"/>
                    </a:lnTo>
                    <a:lnTo>
                      <a:pt x="131" y="158"/>
                    </a:lnTo>
                    <a:lnTo>
                      <a:pt x="0" y="2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238880" y="3649320"/>
                <a:ext cx="123480" cy="1281960"/>
              </a:xfrm>
              <a:custGeom>
                <a:avLst/>
                <a:gdLst/>
                <a:ahLst/>
                <a:rect l="l" t="t" r="r" b="b"/>
                <a:pathLst>
                  <a:path w="49" h="660">
                    <a:moveTo>
                      <a:pt x="0" y="0"/>
                    </a:moveTo>
                    <a:lnTo>
                      <a:pt x="48" y="44"/>
                    </a:lnTo>
                    <a:lnTo>
                      <a:pt x="48" y="659"/>
                    </a:lnTo>
                    <a:lnTo>
                      <a:pt x="0" y="6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711560" y="4855320"/>
                <a:ext cx="91080" cy="400320"/>
              </a:xfrm>
              <a:custGeom>
                <a:avLst/>
                <a:gdLst/>
                <a:ahLst/>
                <a:rect l="l" t="t" r="r" b="b"/>
                <a:pathLst>
                  <a:path w="36" h="206">
                    <a:moveTo>
                      <a:pt x="0" y="0"/>
                    </a:moveTo>
                    <a:lnTo>
                      <a:pt x="35" y="20"/>
                    </a:lnTo>
                    <a:lnTo>
                      <a:pt x="35" y="205"/>
                    </a:lnTo>
                    <a:lnTo>
                      <a:pt x="0" y="18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435800" y="4649760"/>
                <a:ext cx="96120" cy="394200"/>
              </a:xfrm>
              <a:custGeom>
                <a:avLst/>
                <a:gdLst/>
                <a:ahLst/>
                <a:rect l="l" t="t" r="r" b="b"/>
                <a:pathLst>
                  <a:path w="38" h="203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2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567560" y="4752720"/>
                <a:ext cx="95400" cy="398160"/>
              </a:xfrm>
              <a:custGeom>
                <a:avLst/>
                <a:gdLst/>
                <a:ahLst/>
                <a:rect l="l" t="t" r="r" b="b"/>
                <a:pathLst>
                  <a:path w="38" h="205">
                    <a:moveTo>
                      <a:pt x="0" y="0"/>
                    </a:moveTo>
                    <a:lnTo>
                      <a:pt x="37" y="20"/>
                    </a:lnTo>
                    <a:lnTo>
                      <a:pt x="37" y="204"/>
                    </a:lnTo>
                    <a:lnTo>
                      <a:pt x="0" y="18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60200" y="4043520"/>
                <a:ext cx="512640" cy="652680"/>
              </a:xfrm>
              <a:custGeom>
                <a:avLst/>
                <a:gdLst/>
                <a:ahLst/>
                <a:rect l="l" t="t" r="r" b="b"/>
                <a:pathLst>
                  <a:path w="203" h="336">
                    <a:moveTo>
                      <a:pt x="0" y="0"/>
                    </a:moveTo>
                    <a:lnTo>
                      <a:pt x="201" y="205"/>
                    </a:lnTo>
                    <a:lnTo>
                      <a:pt x="202" y="335"/>
                    </a:lnTo>
                    <a:lnTo>
                      <a:pt x="0" y="1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711560" y="4426200"/>
                <a:ext cx="91080" cy="104760"/>
              </a:xfrm>
              <a:custGeom>
                <a:avLst/>
                <a:gdLst/>
                <a:ahLst/>
                <a:rect l="l" t="t" r="r" b="b"/>
                <a:pathLst>
                  <a:path w="36" h="54">
                    <a:moveTo>
                      <a:pt x="0" y="0"/>
                    </a:moveTo>
                    <a:lnTo>
                      <a:pt x="35" y="20"/>
                    </a:lnTo>
                    <a:lnTo>
                      <a:pt x="35" y="53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711560" y="4694040"/>
                <a:ext cx="91080" cy="101160"/>
              </a:xfrm>
              <a:custGeom>
                <a:avLst/>
                <a:gdLst/>
                <a:ahLst/>
                <a:rect l="l" t="t" r="r" b="b"/>
                <a:pathLst>
                  <a:path w="36" h="52">
                    <a:moveTo>
                      <a:pt x="0" y="0"/>
                    </a:moveTo>
                    <a:lnTo>
                      <a:pt x="35" y="19"/>
                    </a:lnTo>
                    <a:lnTo>
                      <a:pt x="35" y="51"/>
                    </a:lnTo>
                    <a:lnTo>
                      <a:pt x="0" y="3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619" name=""/>
            <p:cNvSpPr/>
            <p:nvPr/>
          </p:nvSpPr>
          <p:spPr>
            <a:xfrm>
              <a:off x="7924680" y="3962160"/>
              <a:ext cx="857160" cy="85716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Arial Narrow"/>
                </a:rPr>
                <a:t>JTS/IT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0" name=""/>
          <p:cNvSpPr/>
          <p:nvPr/>
        </p:nvSpPr>
        <p:spPr>
          <a:xfrm>
            <a:off x="3124800" y="3504960"/>
            <a:ext cx="2868840" cy="100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Narrow"/>
              </a:rPr>
              <a:t>Distributed Transac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Narrow"/>
              </a:rPr>
              <a:t>Distributed Security Domai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 Narrow"/>
              </a:rPr>
              <a:t>Language Interoperabil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622" name=""/>
          <p:cNvGrpSpPr/>
          <p:nvPr/>
        </p:nvGrpSpPr>
        <p:grpSpPr>
          <a:xfrm>
            <a:off x="812880" y="3419640"/>
            <a:ext cx="7654320" cy="1002600"/>
            <a:chOff x="812880" y="3419640"/>
            <a:chExt cx="7654320" cy="1002600"/>
          </a:xfrm>
        </p:grpSpPr>
        <p:sp>
          <p:nvSpPr>
            <p:cNvPr id="623" name=""/>
            <p:cNvSpPr/>
            <p:nvPr/>
          </p:nvSpPr>
          <p:spPr>
            <a:xfrm>
              <a:off x="812880" y="3419640"/>
              <a:ext cx="7654320" cy="1002600"/>
            </a:xfrm>
            <a:prstGeom prst="rightArrow">
              <a:avLst>
                <a:gd name="adj1" fmla="val 81167"/>
                <a:gd name="adj2" fmla="val 54749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882720" y="3658680"/>
              <a:ext cx="17488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96840" y="3660480"/>
              <a:ext cx="147312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429080" y="3660480"/>
              <a:ext cx="16102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plo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171120" y="3660480"/>
              <a:ext cx="170784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28" name=""/>
          <p:cNvSpPr/>
          <p:nvPr/>
        </p:nvSpPr>
        <p:spPr>
          <a:xfrm>
            <a:off x="612720" y="216612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d development-to-management enterprise-application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9" name=""/>
          <p:cNvGrpSpPr/>
          <p:nvPr/>
        </p:nvGrpSpPr>
        <p:grpSpPr>
          <a:xfrm>
            <a:off x="3249720" y="4782960"/>
            <a:ext cx="2997000" cy="723600"/>
            <a:chOff x="3249720" y="4782960"/>
            <a:chExt cx="2997000" cy="723600"/>
          </a:xfrm>
        </p:grpSpPr>
        <p:sp>
          <p:nvSpPr>
            <p:cNvPr id="630" name=""/>
            <p:cNvSpPr/>
            <p:nvPr/>
          </p:nvSpPr>
          <p:spPr>
            <a:xfrm>
              <a:off x="3249720" y="4782960"/>
              <a:ext cx="2997000" cy="723600"/>
            </a:xfrm>
            <a:prstGeom prst="leftRightArrow">
              <a:avLst>
                <a:gd name="adj1" fmla="val 50000"/>
                <a:gd name="adj2" fmla="val 824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556080" y="4915080"/>
              <a:ext cx="23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ication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5816520" y="5122800"/>
            <a:ext cx="2274840" cy="723960"/>
            <a:chOff x="5816520" y="5122800"/>
            <a:chExt cx="2274840" cy="723960"/>
          </a:xfrm>
        </p:grpSpPr>
        <p:sp>
          <p:nvSpPr>
            <p:cNvPr id="633" name=""/>
            <p:cNvSpPr/>
            <p:nvPr/>
          </p:nvSpPr>
          <p:spPr>
            <a:xfrm>
              <a:off x="5816520" y="5122800"/>
              <a:ext cx="2274840" cy="723960"/>
            </a:xfrm>
            <a:prstGeom prst="leftRightArrow">
              <a:avLst>
                <a:gd name="adj1" fmla="val 59648"/>
                <a:gd name="adj2" fmla="val 7762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225840" y="525528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Cen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>
            <a:off x="838080" y="4419720"/>
            <a:ext cx="2895840" cy="685800"/>
          </a:xfrm>
          <a:prstGeom prst="leftRightArrow">
            <a:avLst>
              <a:gd name="adj1" fmla="val 50000"/>
              <a:gd name="adj2" fmla="val 84060"/>
            </a:avLst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evelop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1353600" y="450360"/>
            <a:ext cx="7543800" cy="80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JBuilder Enterpris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15880" y="1774800"/>
            <a:ext cx="8229600" cy="3657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JB Wizar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SP Wizard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JSP Runtime  (Run/Debug JSPs within JBuilder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CORBA Wizard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Includes HTML CORBA Client and Java CORBA Server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DL Integ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VisiBroker 4 integr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buted Debugging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JBuilder EJB Develop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639" name="EJBWiz" descr=""/>
          <p:cNvPicPr/>
          <p:nvPr/>
        </p:nvPicPr>
        <p:blipFill>
          <a:blip r:embed="rId2"/>
          <a:stretch/>
        </p:blipFill>
        <p:spPr>
          <a:xfrm>
            <a:off x="1447920" y="2031840"/>
            <a:ext cx="6019560" cy="41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JBuilder EJB Develop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641" name="EJBDD2" descr=""/>
          <p:cNvPicPr/>
          <p:nvPr/>
        </p:nvPicPr>
        <p:blipFill>
          <a:blip r:embed="rId2"/>
          <a:stretch/>
        </p:blipFill>
        <p:spPr>
          <a:xfrm>
            <a:off x="1295280" y="1824120"/>
            <a:ext cx="6096240" cy="44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JBuilder EJB Developm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643" name="EJBDeploy" descr=""/>
          <p:cNvPicPr/>
          <p:nvPr/>
        </p:nvPicPr>
        <p:blipFill>
          <a:blip r:embed="rId2"/>
          <a:stretch/>
        </p:blipFill>
        <p:spPr>
          <a:xfrm>
            <a:off x="1143000" y="1828800"/>
            <a:ext cx="6553080" cy="44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812880" y="3419640"/>
            <a:ext cx="7654320" cy="1002600"/>
            <a:chOff x="812880" y="3419640"/>
            <a:chExt cx="7654320" cy="1002600"/>
          </a:xfrm>
        </p:grpSpPr>
        <p:sp>
          <p:nvSpPr>
            <p:cNvPr id="646" name=""/>
            <p:cNvSpPr/>
            <p:nvPr/>
          </p:nvSpPr>
          <p:spPr>
            <a:xfrm>
              <a:off x="812880" y="3419640"/>
              <a:ext cx="7654320" cy="1002600"/>
            </a:xfrm>
            <a:prstGeom prst="rightArrow">
              <a:avLst>
                <a:gd name="adj1" fmla="val 81167"/>
                <a:gd name="adj2" fmla="val 54749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82720" y="3658680"/>
              <a:ext cx="17488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2796840" y="3660480"/>
              <a:ext cx="147312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429080" y="3660480"/>
              <a:ext cx="16102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plo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6171120" y="3660480"/>
              <a:ext cx="170784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1" name=""/>
          <p:cNvSpPr/>
          <p:nvPr/>
        </p:nvSpPr>
        <p:spPr>
          <a:xfrm>
            <a:off x="612720" y="216612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d development-to-management enterprise-application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811080" y="4443480"/>
            <a:ext cx="2874960" cy="723960"/>
            <a:chOff x="811080" y="4443480"/>
            <a:chExt cx="2874960" cy="723960"/>
          </a:xfrm>
        </p:grpSpPr>
        <p:sp>
          <p:nvSpPr>
            <p:cNvPr id="653" name=""/>
            <p:cNvSpPr/>
            <p:nvPr/>
          </p:nvSpPr>
          <p:spPr>
            <a:xfrm>
              <a:off x="811080" y="4443480"/>
              <a:ext cx="2874960" cy="723960"/>
            </a:xfrm>
            <a:prstGeom prst="leftRightArrow">
              <a:avLst>
                <a:gd name="adj1" fmla="val 50000"/>
                <a:gd name="adj2" fmla="val 7905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070280" y="4567680"/>
              <a:ext cx="24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velopment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3200400" y="4765680"/>
            <a:ext cx="2997360" cy="797040"/>
          </a:xfrm>
          <a:prstGeom prst="leftRightArrow">
            <a:avLst>
              <a:gd name="adj1" fmla="val 50000"/>
              <a:gd name="adj2" fmla="val 74864"/>
            </a:avLst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pplication Ser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5816520" y="5122800"/>
            <a:ext cx="2274840" cy="723960"/>
            <a:chOff x="5816520" y="5122800"/>
            <a:chExt cx="2274840" cy="723960"/>
          </a:xfrm>
        </p:grpSpPr>
        <p:sp>
          <p:nvSpPr>
            <p:cNvPr id="657" name=""/>
            <p:cNvSpPr/>
            <p:nvPr/>
          </p:nvSpPr>
          <p:spPr>
            <a:xfrm>
              <a:off x="5816520" y="5122800"/>
              <a:ext cx="2274840" cy="723960"/>
            </a:xfrm>
            <a:prstGeom prst="leftRightArrow">
              <a:avLst>
                <a:gd name="adj1" fmla="val 59648"/>
                <a:gd name="adj2" fmla="val 77624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6225840" y="525528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Cen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1317240" y="345960"/>
            <a:ext cx="7543800" cy="843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pplication Server Console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63680" y="1922400"/>
            <a:ext cx="8229600" cy="335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Preproduction tool for assembling, integrating, and deploying  components into distributed application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1680" indent="-3016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nage Application Servers/EJB Contain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RBA objects and servic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Container and JNDI browse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53760" indent="-25128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XML deployment descriptor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01680" indent="-3016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ssemble and deploy EJB jars into containers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1" name="services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pic>
        <p:nvPicPr>
          <p:cNvPr id="99" name="appserver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deploy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nprise Application Serv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812880" y="3419640"/>
            <a:ext cx="7654320" cy="1002600"/>
            <a:chOff x="812880" y="3419640"/>
            <a:chExt cx="7654320" cy="1002600"/>
          </a:xfrm>
        </p:grpSpPr>
        <p:sp>
          <p:nvSpPr>
            <p:cNvPr id="665" name=""/>
            <p:cNvSpPr/>
            <p:nvPr/>
          </p:nvSpPr>
          <p:spPr>
            <a:xfrm>
              <a:off x="812880" y="3419640"/>
              <a:ext cx="7654320" cy="1002600"/>
            </a:xfrm>
            <a:prstGeom prst="rightArrow">
              <a:avLst>
                <a:gd name="adj1" fmla="val 81167"/>
                <a:gd name="adj2" fmla="val 54749"/>
              </a:avLst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882720" y="3658680"/>
              <a:ext cx="17488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velop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796840" y="3660480"/>
              <a:ext cx="147312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Integratio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429080" y="3660480"/>
              <a:ext cx="161028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Deploy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171120" y="3660480"/>
              <a:ext cx="1707840" cy="459720"/>
            </a:xfrm>
            <a:prstGeom prst="rect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Arial Narrow"/>
                </a:rPr>
                <a:t>Managemen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0" name=""/>
          <p:cNvSpPr/>
          <p:nvPr/>
        </p:nvSpPr>
        <p:spPr>
          <a:xfrm>
            <a:off x="612720" y="2166120"/>
            <a:ext cx="802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tegrated development-to-management enterprise-application 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811080" y="4443480"/>
            <a:ext cx="2874960" cy="723960"/>
            <a:chOff x="811080" y="4443480"/>
            <a:chExt cx="2874960" cy="723960"/>
          </a:xfrm>
        </p:grpSpPr>
        <p:sp>
          <p:nvSpPr>
            <p:cNvPr id="672" name=""/>
            <p:cNvSpPr/>
            <p:nvPr/>
          </p:nvSpPr>
          <p:spPr>
            <a:xfrm>
              <a:off x="811080" y="4443480"/>
              <a:ext cx="2874960" cy="723960"/>
            </a:xfrm>
            <a:prstGeom prst="leftRightArrow">
              <a:avLst>
                <a:gd name="adj1" fmla="val 50000"/>
                <a:gd name="adj2" fmla="val 79055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070280" y="4567680"/>
              <a:ext cx="24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Development Tool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3249720" y="4782960"/>
            <a:ext cx="2997000" cy="723600"/>
            <a:chOff x="3249720" y="4782960"/>
            <a:chExt cx="2997000" cy="723600"/>
          </a:xfrm>
        </p:grpSpPr>
        <p:sp>
          <p:nvSpPr>
            <p:cNvPr id="675" name=""/>
            <p:cNvSpPr/>
            <p:nvPr/>
          </p:nvSpPr>
          <p:spPr>
            <a:xfrm>
              <a:off x="3249720" y="4782960"/>
              <a:ext cx="2997000" cy="723600"/>
            </a:xfrm>
            <a:prstGeom prst="leftRightArrow">
              <a:avLst>
                <a:gd name="adj1" fmla="val 50000"/>
                <a:gd name="adj2" fmla="val 82452"/>
              </a:avLst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3556080" y="4915080"/>
              <a:ext cx="23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 Narrow"/>
                </a:rPr>
                <a:t>Application Serv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7" name=""/>
          <p:cNvGrpSpPr/>
          <p:nvPr/>
        </p:nvGrpSpPr>
        <p:grpSpPr>
          <a:xfrm>
            <a:off x="5816520" y="5122800"/>
            <a:ext cx="2274840" cy="723960"/>
            <a:chOff x="5816520" y="5122800"/>
            <a:chExt cx="2274840" cy="723960"/>
          </a:xfrm>
        </p:grpSpPr>
        <p:sp>
          <p:nvSpPr>
            <p:cNvPr id="678" name=""/>
            <p:cNvSpPr/>
            <p:nvPr/>
          </p:nvSpPr>
          <p:spPr>
            <a:xfrm>
              <a:off x="5816520" y="5122800"/>
              <a:ext cx="2274840" cy="723960"/>
            </a:xfrm>
            <a:prstGeom prst="leftRightArrow">
              <a:avLst>
                <a:gd name="adj1" fmla="val 59648"/>
                <a:gd name="adj2" fmla="val 77624"/>
              </a:avLst>
            </a:prstGeom>
            <a:solidFill>
              <a:srgbClr val="ff505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6225840" y="5255280"/>
              <a:ext cx="1456200" cy="459720"/>
            </a:xfrm>
            <a:prstGeom prst="rect">
              <a:avLst/>
            </a:prstGeom>
            <a:solidFill>
              <a:srgbClr val="ff5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AppCent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1358640" y="417600"/>
            <a:ext cx="7543800" cy="80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AppCenter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15880" y="1746360"/>
            <a:ext cx="8229600" cy="35812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Managing and monitoring distributed-object applications (EJB, CORBA </a:t>
            </a:r>
            <a:r>
              <a:rPr b="0" i="1" lang="en-US" sz="3200" spc="-1" strike="noStrike">
                <a:solidFill>
                  <a:srgbClr val="ffffff"/>
                </a:solidFill>
                <a:latin typeface="Arial Narrow"/>
              </a:rPr>
              <a:t>and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non-CORBA)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Fault-tolerant groups and fail-over relationship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Performance monitor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Wizards to define what to manag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tart and stop individual or groups of objec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67480" indent="-26748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gration with operations environment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xecute actions based on AppCenter event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79240" indent="-2228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SNMP integration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2" name="EJB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696080" cy="1371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Arial Narrow"/>
              </a:rPr>
              <a:t>Inprise Application Server: Integrated Development to Management</a:t>
            </a:r>
            <a:endParaRPr b="1" lang="en-US" sz="40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85800" y="1733400"/>
            <a:ext cx="8229600" cy="436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ntegrated Development tools for Application Server:  Java, EJB, HTML, Servlets, JSP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Enterprise EJB Solu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VisiBroker:  Reliable, Scalable, Open, Extensibl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RMI/IIOP:  Enterprise-level applicatio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Distributed application management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Assemble, Integrate, Deploy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Manage - keep applications in production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AS 4 Beta Statu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Field Test starts in September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EJB Container has been in early access program since Spring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JOIN  THE BETA PROGRAM - Leave us your business cards!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9720" indent="-338040">
              <a:spcBef>
                <a:spcPts val="700"/>
              </a:spcBef>
              <a:buClr>
                <a:srgbClr val="ffcc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Narrow"/>
              </a:rPr>
              <a:t>NT and Solari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General Availability -  Q4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7" name="newlogo" descr=""/>
          <p:cNvPicPr/>
          <p:nvPr/>
        </p:nvPicPr>
        <p:blipFill>
          <a:blip r:embed="rId2"/>
          <a:stretch/>
        </p:blipFill>
        <p:spPr>
          <a:xfrm>
            <a:off x="1066680" y="2209680"/>
            <a:ext cx="7315200" cy="24480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3441240" y="5684760"/>
            <a:ext cx="2580840" cy="519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www.inprise.co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25146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  <a:effectLst>
            <a:outerShdw dist="323779" dir="288929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Architecture Overview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The EJB Development Flow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33720" y="1981080"/>
            <a:ext cx="1346040" cy="1197000"/>
            <a:chOff x="2133720" y="1981080"/>
            <a:chExt cx="1346040" cy="1197000"/>
          </a:xfrm>
        </p:grpSpPr>
        <p:grpSp>
          <p:nvGrpSpPr>
            <p:cNvPr id="103" name=""/>
            <p:cNvGrpSpPr/>
            <p:nvPr/>
          </p:nvGrpSpPr>
          <p:grpSpPr>
            <a:xfrm>
              <a:off x="2514600" y="1981080"/>
              <a:ext cx="600840" cy="920160"/>
              <a:chOff x="2514600" y="1981080"/>
              <a:chExt cx="600840" cy="920160"/>
            </a:xfrm>
          </p:grpSpPr>
          <p:sp>
            <p:nvSpPr>
              <p:cNvPr id="104" name=""/>
              <p:cNvSpPr/>
              <p:nvPr/>
            </p:nvSpPr>
            <p:spPr>
              <a:xfrm>
                <a:off x="2549160" y="2203200"/>
                <a:ext cx="566280" cy="56628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147" y="0"/>
                    </a:moveTo>
                    <a:lnTo>
                      <a:pt x="356" y="207"/>
                    </a:lnTo>
                    <a:lnTo>
                      <a:pt x="208" y="356"/>
                    </a:lnTo>
                    <a:lnTo>
                      <a:pt x="0" y="148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2880720" y="2530080"/>
                <a:ext cx="234720" cy="333000"/>
              </a:xfrm>
              <a:custGeom>
                <a:avLst/>
                <a:gdLst/>
                <a:ahLst/>
                <a:rect l="l" t="t" r="r" b="b"/>
                <a:pathLst>
                  <a:path w="148" h="210">
                    <a:moveTo>
                      <a:pt x="147" y="0"/>
                    </a:moveTo>
                    <a:lnTo>
                      <a:pt x="147" y="60"/>
                    </a:lnTo>
                    <a:lnTo>
                      <a:pt x="0" y="209"/>
                    </a:lnTo>
                    <a:lnTo>
                      <a:pt x="0" y="149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2547720" y="2437920"/>
                <a:ext cx="334440" cy="425160"/>
              </a:xfrm>
              <a:custGeom>
                <a:avLst/>
                <a:gdLst/>
                <a:ahLst/>
                <a:rect l="l" t="t" r="r" b="b"/>
                <a:pathLst>
                  <a:path w="211" h="268">
                    <a:moveTo>
                      <a:pt x="0" y="0"/>
                    </a:moveTo>
                    <a:lnTo>
                      <a:pt x="210" y="207"/>
                    </a:lnTo>
                    <a:lnTo>
                      <a:pt x="209" y="267"/>
                    </a:lnTo>
                    <a:lnTo>
                      <a:pt x="0" y="5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2590560" y="2247480"/>
                <a:ext cx="455040" cy="455400"/>
              </a:xfrm>
              <a:custGeom>
                <a:avLst/>
                <a:gdLst/>
                <a:ahLst/>
                <a:rect l="l" t="t" r="r" b="b"/>
                <a:pathLst>
                  <a:path w="287" h="287">
                    <a:moveTo>
                      <a:pt x="109" y="0"/>
                    </a:moveTo>
                    <a:lnTo>
                      <a:pt x="286" y="177"/>
                    </a:lnTo>
                    <a:lnTo>
                      <a:pt x="176" y="286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2595240" y="2109240"/>
                <a:ext cx="279000" cy="561600"/>
              </a:xfrm>
              <a:custGeom>
                <a:avLst/>
                <a:gdLst/>
                <a:ahLst/>
                <a:rect l="l" t="t" r="r" b="b"/>
                <a:pathLst>
                  <a:path w="176" h="354">
                    <a:moveTo>
                      <a:pt x="0" y="0"/>
                    </a:moveTo>
                    <a:lnTo>
                      <a:pt x="175" y="177"/>
                    </a:lnTo>
                    <a:lnTo>
                      <a:pt x="175" y="353"/>
                    </a:lnTo>
                    <a:lnTo>
                      <a:pt x="0" y="1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2633400" y="2182320"/>
                <a:ext cx="207720" cy="39024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0" y="0"/>
                    </a:moveTo>
                    <a:lnTo>
                      <a:pt x="130" y="130"/>
                    </a:lnTo>
                    <a:lnTo>
                      <a:pt x="130" y="245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2346b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620800" y="2165040"/>
                <a:ext cx="29880" cy="212400"/>
              </a:xfrm>
              <a:custGeom>
                <a:avLst/>
                <a:gdLst/>
                <a:ahLst/>
                <a:rect l="l" t="t" r="r" b="b"/>
                <a:pathLst>
                  <a:path w="19" h="134">
                    <a:moveTo>
                      <a:pt x="0" y="0"/>
                    </a:moveTo>
                    <a:lnTo>
                      <a:pt x="18" y="11"/>
                    </a:lnTo>
                    <a:lnTo>
                      <a:pt x="18" y="126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620800" y="2368080"/>
                <a:ext cx="220320" cy="230040"/>
              </a:xfrm>
              <a:custGeom>
                <a:avLst/>
                <a:gdLst/>
                <a:ahLst/>
                <a:rect l="l" t="t" r="r" b="b"/>
                <a:pathLst>
                  <a:path w="139" h="145">
                    <a:moveTo>
                      <a:pt x="8" y="0"/>
                    </a:moveTo>
                    <a:lnTo>
                      <a:pt x="138" y="129"/>
                    </a:lnTo>
                    <a:lnTo>
                      <a:pt x="138" y="144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871360" y="2528640"/>
                <a:ext cx="174240" cy="19944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9" y="0"/>
                    </a:moveTo>
                    <a:lnTo>
                      <a:pt x="109" y="15"/>
                    </a:lnTo>
                    <a:lnTo>
                      <a:pt x="0" y="125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90560" y="2420640"/>
                <a:ext cx="282240" cy="307440"/>
              </a:xfrm>
              <a:custGeom>
                <a:avLst/>
                <a:gdLst/>
                <a:ahLst/>
                <a:rect l="l" t="t" r="r" b="b"/>
                <a:pathLst>
                  <a:path w="178" h="194">
                    <a:moveTo>
                      <a:pt x="0" y="0"/>
                    </a:moveTo>
                    <a:lnTo>
                      <a:pt x="176" y="176"/>
                    </a:lnTo>
                    <a:lnTo>
                      <a:pt x="177" y="193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514600" y="2539440"/>
                <a:ext cx="320040" cy="345960"/>
              </a:xfrm>
              <a:custGeom>
                <a:avLst/>
                <a:gdLst/>
                <a:ahLst/>
                <a:rect l="l" t="t" r="r" b="b"/>
                <a:pathLst>
                  <a:path w="202" h="218">
                    <a:moveTo>
                      <a:pt x="48" y="0"/>
                    </a:moveTo>
                    <a:lnTo>
                      <a:pt x="201" y="151"/>
                    </a:lnTo>
                    <a:lnTo>
                      <a:pt x="152" y="217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757240" y="2781000"/>
                <a:ext cx="77400" cy="12024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8" y="0"/>
                    </a:moveTo>
                    <a:lnTo>
                      <a:pt x="47" y="15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514600" y="2642760"/>
                <a:ext cx="244440" cy="258480"/>
              </a:xfrm>
              <a:custGeom>
                <a:avLst/>
                <a:gdLst/>
                <a:ahLst/>
                <a:rect l="l" t="t" r="r" b="b"/>
                <a:pathLst>
                  <a:path w="154" h="163">
                    <a:moveTo>
                      <a:pt x="0" y="0"/>
                    </a:moveTo>
                    <a:lnTo>
                      <a:pt x="152" y="152"/>
                    </a:lnTo>
                    <a:lnTo>
                      <a:pt x="153" y="162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2926800" y="2161800"/>
                <a:ext cx="80640" cy="407520"/>
              </a:xfrm>
              <a:custGeom>
                <a:avLst/>
                <a:gdLst/>
                <a:ahLst/>
                <a:rect l="l" t="t" r="r" b="b"/>
                <a:pathLst>
                  <a:path w="51" h="257">
                    <a:moveTo>
                      <a:pt x="0" y="78"/>
                    </a:moveTo>
                    <a:lnTo>
                      <a:pt x="50" y="0"/>
                    </a:lnTo>
                    <a:lnTo>
                      <a:pt x="50" y="176"/>
                    </a:lnTo>
                    <a:lnTo>
                      <a:pt x="0" y="256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872800" y="2310840"/>
                <a:ext cx="83880" cy="363240"/>
              </a:xfrm>
              <a:custGeom>
                <a:avLst/>
                <a:gdLst/>
                <a:ahLst/>
                <a:rect l="l" t="t" r="r" b="b"/>
                <a:pathLst>
                  <a:path w="53" h="229">
                    <a:moveTo>
                      <a:pt x="0" y="50"/>
                    </a:moveTo>
                    <a:lnTo>
                      <a:pt x="52" y="0"/>
                    </a:lnTo>
                    <a:lnTo>
                      <a:pt x="52" y="176"/>
                    </a:lnTo>
                    <a:lnTo>
                      <a:pt x="0" y="228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595240" y="1981080"/>
                <a:ext cx="412200" cy="410760"/>
              </a:xfrm>
              <a:custGeom>
                <a:avLst/>
                <a:gdLst/>
                <a:ahLst/>
                <a:rect l="l" t="t" r="r" b="b"/>
                <a:pathLst>
                  <a:path w="260" h="259">
                    <a:moveTo>
                      <a:pt x="49" y="30"/>
                    </a:moveTo>
                    <a:lnTo>
                      <a:pt x="66" y="49"/>
                    </a:lnTo>
                    <a:lnTo>
                      <a:pt x="146" y="0"/>
                    </a:lnTo>
                    <a:lnTo>
                      <a:pt x="259" y="114"/>
                    </a:lnTo>
                    <a:lnTo>
                      <a:pt x="210" y="192"/>
                    </a:lnTo>
                    <a:lnTo>
                      <a:pt x="227" y="207"/>
                    </a:lnTo>
                    <a:lnTo>
                      <a:pt x="176" y="258"/>
                    </a:lnTo>
                    <a:lnTo>
                      <a:pt x="0" y="80"/>
                    </a:lnTo>
                    <a:lnTo>
                      <a:pt x="49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554200" y="2585520"/>
                <a:ext cx="239400" cy="257040"/>
              </a:xfrm>
              <a:custGeom>
                <a:avLst/>
                <a:gdLst/>
                <a:ahLst/>
                <a:rect l="l" t="t" r="r" b="b"/>
                <a:pathLst>
                  <a:path w="151" h="162">
                    <a:moveTo>
                      <a:pt x="25" y="0"/>
                    </a:moveTo>
                    <a:lnTo>
                      <a:pt x="150" y="123"/>
                    </a:lnTo>
                    <a:lnTo>
                      <a:pt x="123" y="161"/>
                    </a:lnTo>
                    <a:lnTo>
                      <a:pt x="0" y="3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1" name=""/>
            <p:cNvSpPr/>
            <p:nvPr/>
          </p:nvSpPr>
          <p:spPr>
            <a:xfrm>
              <a:off x="2133720" y="2819160"/>
              <a:ext cx="1346040" cy="35892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JBuil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55880" y="3657600"/>
            <a:ext cx="1676160" cy="457200"/>
            <a:chOff x="1955880" y="3657600"/>
            <a:chExt cx="1676160" cy="457200"/>
          </a:xfrm>
        </p:grpSpPr>
        <p:sp>
          <p:nvSpPr>
            <p:cNvPr id="123" name=""/>
            <p:cNvSpPr/>
            <p:nvPr/>
          </p:nvSpPr>
          <p:spPr>
            <a:xfrm>
              <a:off x="1955880" y="3657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EJ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577960" y="3657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EJ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74840" y="36576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EJ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133720" y="4940280"/>
            <a:ext cx="1143000" cy="1066320"/>
            <a:chOff x="2133720" y="4940280"/>
            <a:chExt cx="1143000" cy="1066320"/>
          </a:xfrm>
        </p:grpSpPr>
        <p:grpSp>
          <p:nvGrpSpPr>
            <p:cNvPr id="127" name=""/>
            <p:cNvGrpSpPr/>
            <p:nvPr/>
          </p:nvGrpSpPr>
          <p:grpSpPr>
            <a:xfrm>
              <a:off x="2457360" y="4940280"/>
              <a:ext cx="510120" cy="819720"/>
              <a:chOff x="2457360" y="4940280"/>
              <a:chExt cx="510120" cy="819720"/>
            </a:xfrm>
          </p:grpSpPr>
          <p:sp>
            <p:nvSpPr>
              <p:cNvPr id="128" name=""/>
              <p:cNvSpPr/>
              <p:nvPr/>
            </p:nvSpPr>
            <p:spPr>
              <a:xfrm>
                <a:off x="2486880" y="5138280"/>
                <a:ext cx="480600" cy="504360"/>
              </a:xfrm>
              <a:custGeom>
                <a:avLst/>
                <a:gdLst/>
                <a:ahLst/>
                <a:rect l="l" t="t" r="r" b="b"/>
                <a:pathLst>
                  <a:path w="357" h="357">
                    <a:moveTo>
                      <a:pt x="147" y="0"/>
                    </a:moveTo>
                    <a:lnTo>
                      <a:pt x="356" y="207"/>
                    </a:lnTo>
                    <a:lnTo>
                      <a:pt x="208" y="356"/>
                    </a:lnTo>
                    <a:lnTo>
                      <a:pt x="0" y="148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2768400" y="5429520"/>
                <a:ext cx="199080" cy="296640"/>
              </a:xfrm>
              <a:custGeom>
                <a:avLst/>
                <a:gdLst/>
                <a:ahLst/>
                <a:rect l="l" t="t" r="r" b="b"/>
                <a:pathLst>
                  <a:path w="148" h="210">
                    <a:moveTo>
                      <a:pt x="147" y="0"/>
                    </a:moveTo>
                    <a:lnTo>
                      <a:pt x="147" y="60"/>
                    </a:lnTo>
                    <a:lnTo>
                      <a:pt x="0" y="209"/>
                    </a:lnTo>
                    <a:lnTo>
                      <a:pt x="0" y="149"/>
                    </a:lnTo>
                    <a:lnTo>
                      <a:pt x="147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485440" y="5347440"/>
                <a:ext cx="284040" cy="378720"/>
              </a:xfrm>
              <a:custGeom>
                <a:avLst/>
                <a:gdLst/>
                <a:ahLst/>
                <a:rect l="l" t="t" r="r" b="b"/>
                <a:pathLst>
                  <a:path w="211" h="268">
                    <a:moveTo>
                      <a:pt x="0" y="0"/>
                    </a:moveTo>
                    <a:lnTo>
                      <a:pt x="210" y="207"/>
                    </a:lnTo>
                    <a:lnTo>
                      <a:pt x="209" y="267"/>
                    </a:lnTo>
                    <a:lnTo>
                      <a:pt x="0" y="5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2521800" y="5177520"/>
                <a:ext cx="386280" cy="405720"/>
              </a:xfrm>
              <a:custGeom>
                <a:avLst/>
                <a:gdLst/>
                <a:ahLst/>
                <a:rect l="l" t="t" r="r" b="b"/>
                <a:pathLst>
                  <a:path w="287" h="287">
                    <a:moveTo>
                      <a:pt x="109" y="0"/>
                    </a:moveTo>
                    <a:lnTo>
                      <a:pt x="286" y="177"/>
                    </a:lnTo>
                    <a:lnTo>
                      <a:pt x="176" y="286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2525760" y="5054400"/>
                <a:ext cx="236880" cy="500400"/>
              </a:xfrm>
              <a:custGeom>
                <a:avLst/>
                <a:gdLst/>
                <a:ahLst/>
                <a:rect l="l" t="t" r="r" b="b"/>
                <a:pathLst>
                  <a:path w="176" h="354">
                    <a:moveTo>
                      <a:pt x="0" y="0"/>
                    </a:moveTo>
                    <a:lnTo>
                      <a:pt x="175" y="177"/>
                    </a:lnTo>
                    <a:lnTo>
                      <a:pt x="175" y="353"/>
                    </a:lnTo>
                    <a:lnTo>
                      <a:pt x="0" y="17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2558160" y="5119560"/>
                <a:ext cx="176400" cy="347760"/>
              </a:xfrm>
              <a:custGeom>
                <a:avLst/>
                <a:gdLst/>
                <a:ahLst/>
                <a:rect l="l" t="t" r="r" b="b"/>
                <a:pathLst>
                  <a:path w="131" h="246">
                    <a:moveTo>
                      <a:pt x="0" y="0"/>
                    </a:moveTo>
                    <a:lnTo>
                      <a:pt x="130" y="130"/>
                    </a:lnTo>
                    <a:lnTo>
                      <a:pt x="130" y="245"/>
                    </a:lnTo>
                    <a:lnTo>
                      <a:pt x="0" y="115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366ff"/>
                  </a:gs>
                  <a:gs pos="100000">
                    <a:srgbClr val="2346b1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547720" y="5104080"/>
                <a:ext cx="25560" cy="189360"/>
              </a:xfrm>
              <a:custGeom>
                <a:avLst/>
                <a:gdLst/>
                <a:ahLst/>
                <a:rect l="l" t="t" r="r" b="b"/>
                <a:pathLst>
                  <a:path w="19" h="134">
                    <a:moveTo>
                      <a:pt x="0" y="0"/>
                    </a:moveTo>
                    <a:lnTo>
                      <a:pt x="18" y="11"/>
                    </a:lnTo>
                    <a:lnTo>
                      <a:pt x="18" y="126"/>
                    </a:lnTo>
                    <a:lnTo>
                      <a:pt x="0" y="13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2547720" y="5285160"/>
                <a:ext cx="186840" cy="204840"/>
              </a:xfrm>
              <a:custGeom>
                <a:avLst/>
                <a:gdLst/>
                <a:ahLst/>
                <a:rect l="l" t="t" r="r" b="b"/>
                <a:pathLst>
                  <a:path w="139" h="145">
                    <a:moveTo>
                      <a:pt x="8" y="0"/>
                    </a:moveTo>
                    <a:lnTo>
                      <a:pt x="138" y="129"/>
                    </a:lnTo>
                    <a:lnTo>
                      <a:pt x="138" y="144"/>
                    </a:lnTo>
                    <a:lnTo>
                      <a:pt x="0" y="6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60480" y="5428080"/>
                <a:ext cx="147960" cy="177840"/>
              </a:xfrm>
              <a:custGeom>
                <a:avLst/>
                <a:gdLst/>
                <a:ahLst/>
                <a:rect l="l" t="t" r="r" b="b"/>
                <a:pathLst>
                  <a:path w="110" h="126">
                    <a:moveTo>
                      <a:pt x="109" y="0"/>
                    </a:moveTo>
                    <a:lnTo>
                      <a:pt x="109" y="15"/>
                    </a:lnTo>
                    <a:lnTo>
                      <a:pt x="0" y="125"/>
                    </a:lnTo>
                    <a:lnTo>
                      <a:pt x="0" y="108"/>
                    </a:lnTo>
                    <a:lnTo>
                      <a:pt x="109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2521800" y="5331960"/>
                <a:ext cx="239400" cy="273960"/>
              </a:xfrm>
              <a:custGeom>
                <a:avLst/>
                <a:gdLst/>
                <a:ahLst/>
                <a:rect l="l" t="t" r="r" b="b"/>
                <a:pathLst>
                  <a:path w="178" h="194">
                    <a:moveTo>
                      <a:pt x="0" y="0"/>
                    </a:moveTo>
                    <a:lnTo>
                      <a:pt x="176" y="176"/>
                    </a:lnTo>
                    <a:lnTo>
                      <a:pt x="177" y="193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777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457360" y="5437800"/>
                <a:ext cx="271800" cy="308160"/>
              </a:xfrm>
              <a:custGeom>
                <a:avLst/>
                <a:gdLst/>
                <a:ahLst/>
                <a:rect l="l" t="t" r="r" b="b"/>
                <a:pathLst>
                  <a:path w="202" h="218">
                    <a:moveTo>
                      <a:pt x="48" y="0"/>
                    </a:moveTo>
                    <a:lnTo>
                      <a:pt x="201" y="151"/>
                    </a:lnTo>
                    <a:lnTo>
                      <a:pt x="152" y="217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663280" y="5652720"/>
                <a:ext cx="65880" cy="107280"/>
              </a:xfrm>
              <a:custGeom>
                <a:avLst/>
                <a:gdLst/>
                <a:ahLst/>
                <a:rect l="l" t="t" r="r" b="b"/>
                <a:pathLst>
                  <a:path w="49" h="76">
                    <a:moveTo>
                      <a:pt x="48" y="0"/>
                    </a:moveTo>
                    <a:lnTo>
                      <a:pt x="47" y="15"/>
                    </a:lnTo>
                    <a:lnTo>
                      <a:pt x="0" y="75"/>
                    </a:lnTo>
                    <a:lnTo>
                      <a:pt x="0" y="65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457360" y="5529600"/>
                <a:ext cx="207360" cy="230400"/>
              </a:xfrm>
              <a:custGeom>
                <a:avLst/>
                <a:gdLst/>
                <a:ahLst/>
                <a:rect l="l" t="t" r="r" b="b"/>
                <a:pathLst>
                  <a:path w="154" h="163">
                    <a:moveTo>
                      <a:pt x="0" y="0"/>
                    </a:moveTo>
                    <a:lnTo>
                      <a:pt x="152" y="152"/>
                    </a:lnTo>
                    <a:lnTo>
                      <a:pt x="153" y="162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807280" y="5101200"/>
                <a:ext cx="68400" cy="363240"/>
              </a:xfrm>
              <a:custGeom>
                <a:avLst/>
                <a:gdLst/>
                <a:ahLst/>
                <a:rect l="l" t="t" r="r" b="b"/>
                <a:pathLst>
                  <a:path w="51" h="257">
                    <a:moveTo>
                      <a:pt x="0" y="78"/>
                    </a:moveTo>
                    <a:lnTo>
                      <a:pt x="50" y="0"/>
                    </a:lnTo>
                    <a:lnTo>
                      <a:pt x="50" y="176"/>
                    </a:lnTo>
                    <a:lnTo>
                      <a:pt x="0" y="256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39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2761560" y="5234040"/>
                <a:ext cx="71280" cy="323640"/>
              </a:xfrm>
              <a:custGeom>
                <a:avLst/>
                <a:gdLst/>
                <a:ahLst/>
                <a:rect l="l" t="t" r="r" b="b"/>
                <a:pathLst>
                  <a:path w="53" h="229">
                    <a:moveTo>
                      <a:pt x="0" y="50"/>
                    </a:moveTo>
                    <a:lnTo>
                      <a:pt x="52" y="0"/>
                    </a:lnTo>
                    <a:lnTo>
                      <a:pt x="52" y="176"/>
                    </a:lnTo>
                    <a:lnTo>
                      <a:pt x="0" y="228"/>
                    </a:lnTo>
                    <a:lnTo>
                      <a:pt x="0" y="50"/>
                    </a:lnTo>
                  </a:path>
                </a:pathLst>
              </a:custGeom>
              <a:solidFill>
                <a:srgbClr val="8686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2525760" y="4940280"/>
                <a:ext cx="349920" cy="366120"/>
              </a:xfrm>
              <a:custGeom>
                <a:avLst/>
                <a:gdLst/>
                <a:ahLst/>
                <a:rect l="l" t="t" r="r" b="b"/>
                <a:pathLst>
                  <a:path w="260" h="259">
                    <a:moveTo>
                      <a:pt x="49" y="30"/>
                    </a:moveTo>
                    <a:lnTo>
                      <a:pt x="66" y="49"/>
                    </a:lnTo>
                    <a:lnTo>
                      <a:pt x="146" y="0"/>
                    </a:lnTo>
                    <a:lnTo>
                      <a:pt x="259" y="114"/>
                    </a:lnTo>
                    <a:lnTo>
                      <a:pt x="210" y="192"/>
                    </a:lnTo>
                    <a:lnTo>
                      <a:pt x="227" y="207"/>
                    </a:lnTo>
                    <a:lnTo>
                      <a:pt x="176" y="258"/>
                    </a:lnTo>
                    <a:lnTo>
                      <a:pt x="0" y="80"/>
                    </a:lnTo>
                    <a:lnTo>
                      <a:pt x="49" y="30"/>
                    </a:lnTo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491200" y="5478840"/>
                <a:ext cx="203040" cy="228960"/>
              </a:xfrm>
              <a:custGeom>
                <a:avLst/>
                <a:gdLst/>
                <a:ahLst/>
                <a:rect l="l" t="t" r="r" b="b"/>
                <a:pathLst>
                  <a:path w="151" h="162">
                    <a:moveTo>
                      <a:pt x="25" y="0"/>
                    </a:moveTo>
                    <a:lnTo>
                      <a:pt x="150" y="123"/>
                    </a:lnTo>
                    <a:lnTo>
                      <a:pt x="123" y="161"/>
                    </a:lnTo>
                    <a:lnTo>
                      <a:pt x="0" y="37"/>
                    </a:lnTo>
                    <a:lnTo>
                      <a:pt x="25" y="0"/>
                    </a:lnTo>
                  </a:path>
                </a:pathLst>
              </a:cu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45" name=""/>
            <p:cNvSpPr/>
            <p:nvPr/>
          </p:nvSpPr>
          <p:spPr>
            <a:xfrm>
              <a:off x="2133720" y="5686920"/>
              <a:ext cx="1143000" cy="319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JBuilder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949560" y="4648320"/>
            <a:ext cx="774720" cy="1523880"/>
            <a:chOff x="3949560" y="4648320"/>
            <a:chExt cx="774720" cy="1523880"/>
          </a:xfrm>
        </p:grpSpPr>
        <p:sp>
          <p:nvSpPr>
            <p:cNvPr id="147" name=""/>
            <p:cNvSpPr/>
            <p:nvPr/>
          </p:nvSpPr>
          <p:spPr>
            <a:xfrm>
              <a:off x="3949560" y="5486400"/>
              <a:ext cx="762120" cy="6858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Servl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2520" y="4648320"/>
              <a:ext cx="761760" cy="6858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HT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JS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4876920" y="1676520"/>
            <a:ext cx="4038120" cy="2286000"/>
            <a:chOff x="4876920" y="1676520"/>
            <a:chExt cx="4038120" cy="2286000"/>
          </a:xfrm>
        </p:grpSpPr>
        <p:grpSp>
          <p:nvGrpSpPr>
            <p:cNvPr id="150" name=""/>
            <p:cNvGrpSpPr/>
            <p:nvPr/>
          </p:nvGrpSpPr>
          <p:grpSpPr>
            <a:xfrm>
              <a:off x="4876920" y="1676520"/>
              <a:ext cx="4038120" cy="1474560"/>
              <a:chOff x="4876920" y="1676520"/>
              <a:chExt cx="4038120" cy="1474560"/>
            </a:xfrm>
          </p:grpSpPr>
          <p:grpSp>
            <p:nvGrpSpPr>
              <p:cNvPr id="151" name=""/>
              <p:cNvGrpSpPr/>
              <p:nvPr/>
            </p:nvGrpSpPr>
            <p:grpSpPr>
              <a:xfrm>
                <a:off x="4876920" y="1676520"/>
                <a:ext cx="1904760" cy="1474560"/>
                <a:chOff x="4876920" y="1676520"/>
                <a:chExt cx="1904760" cy="1474560"/>
              </a:xfrm>
            </p:grpSpPr>
            <p:grpSp>
              <p:nvGrpSpPr>
                <p:cNvPr id="152" name=""/>
                <p:cNvGrpSpPr/>
                <p:nvPr/>
              </p:nvGrpSpPr>
              <p:grpSpPr>
                <a:xfrm>
                  <a:off x="4876920" y="1676520"/>
                  <a:ext cx="1904760" cy="1474560"/>
                  <a:chOff x="4876920" y="1676520"/>
                  <a:chExt cx="1904760" cy="1474560"/>
                </a:xfrm>
              </p:grpSpPr>
              <p:grpSp>
                <p:nvGrpSpPr>
                  <p:cNvPr id="153" name=""/>
                  <p:cNvGrpSpPr/>
                  <p:nvPr/>
                </p:nvGrpSpPr>
                <p:grpSpPr>
                  <a:xfrm>
                    <a:off x="4876920" y="1703520"/>
                    <a:ext cx="1904760" cy="1447560"/>
                    <a:chOff x="4876920" y="1703520"/>
                    <a:chExt cx="1904760" cy="1447560"/>
                  </a:xfrm>
                </p:grpSpPr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4876920" y="1703520"/>
                      <a:ext cx="1904760" cy="1447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99ff"/>
                        </a:gs>
                        <a:gs pos="100000">
                          <a:srgbClr val="113559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1e5b98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155" name="newlogo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952880" y="2599560"/>
                      <a:ext cx="1746000" cy="5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156" name=""/>
                  <p:cNvSpPr/>
                  <p:nvPr/>
                </p:nvSpPr>
                <p:spPr>
                  <a:xfrm>
                    <a:off x="5292720" y="1676520"/>
                    <a:ext cx="1183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791e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 Narrow"/>
                      </a:rPr>
                      <a:t>EJB Serve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57" name=""/>
                <p:cNvSpPr/>
                <p:nvPr/>
              </p:nvSpPr>
              <p:spPr>
                <a:xfrm>
                  <a:off x="5638680" y="2057400"/>
                  <a:ext cx="457200" cy="45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3300"/>
                    </a:gs>
                    <a:gs pos="100000">
                      <a:srgbClr val="47110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791e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 Narrow"/>
                    </a:rPr>
                    <a:t>EJ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8" name=""/>
              <p:cNvGrpSpPr/>
              <p:nvPr/>
            </p:nvGrpSpPr>
            <p:grpSpPr>
              <a:xfrm>
                <a:off x="7010280" y="1676520"/>
                <a:ext cx="1904760" cy="1474560"/>
                <a:chOff x="7010280" y="1676520"/>
                <a:chExt cx="1904760" cy="1474560"/>
              </a:xfrm>
            </p:grpSpPr>
            <p:grpSp>
              <p:nvGrpSpPr>
                <p:cNvPr id="159" name=""/>
                <p:cNvGrpSpPr/>
                <p:nvPr/>
              </p:nvGrpSpPr>
              <p:grpSpPr>
                <a:xfrm>
                  <a:off x="7010280" y="1676520"/>
                  <a:ext cx="1904760" cy="1474560"/>
                  <a:chOff x="7010280" y="1676520"/>
                  <a:chExt cx="1904760" cy="1474560"/>
                </a:xfrm>
              </p:grpSpPr>
              <p:grpSp>
                <p:nvGrpSpPr>
                  <p:cNvPr id="160" name=""/>
                  <p:cNvGrpSpPr/>
                  <p:nvPr/>
                </p:nvGrpSpPr>
                <p:grpSpPr>
                  <a:xfrm>
                    <a:off x="7010280" y="1703520"/>
                    <a:ext cx="1904760" cy="1447560"/>
                    <a:chOff x="7010280" y="1703520"/>
                    <a:chExt cx="1904760" cy="1447560"/>
                  </a:xfrm>
                </p:grpSpPr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7010280" y="1703520"/>
                      <a:ext cx="1904760" cy="1447560"/>
                    </a:xfrm>
                    <a:prstGeom prst="rect">
                      <a:avLst/>
                    </a:prstGeom>
                    <a:gradFill rotWithShape="0">
                      <a:gsLst>
                        <a:gs pos="0">
                          <a:srgbClr val="3399ff"/>
                        </a:gs>
                        <a:gs pos="100000">
                          <a:srgbClr val="113559"/>
                        </a:gs>
                      </a:gsLst>
                      <a:lin ang="13500000"/>
                    </a:gradFill>
                    <a:ln w="0">
                      <a:noFill/>
                    </a:ln>
                    <a:effectLst>
                      <a:outerShdw dist="17819" dir="2700000" blurRad="0" rotWithShape="0">
                        <a:srgbClr val="1e5b98"/>
                      </a:outerShdw>
                    </a:effectLst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1800" rIns="91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pic>
                  <p:nvPicPr>
                    <p:cNvPr id="162" name="newlogo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086240" y="2599560"/>
                      <a:ext cx="1746000" cy="528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163" name=""/>
                  <p:cNvSpPr/>
                  <p:nvPr/>
                </p:nvSpPr>
                <p:spPr>
                  <a:xfrm>
                    <a:off x="7426080" y="1676520"/>
                    <a:ext cx="118332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  <a:effectLst>
                    <a:outerShdw dist="17819" dir="2700000" blurRad="0" rotWithShape="0">
                      <a:srgbClr val="791e00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ffffff"/>
                        </a:solidFill>
                        <a:latin typeface="Arial Narrow"/>
                      </a:rPr>
                      <a:t>EJB Server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4" name=""/>
                <p:cNvSpPr/>
                <p:nvPr/>
              </p:nvSpPr>
              <p:spPr>
                <a:xfrm>
                  <a:off x="7772040" y="2057400"/>
                  <a:ext cx="457200" cy="4572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3300"/>
                    </a:gs>
                    <a:gs pos="100000">
                      <a:srgbClr val="471100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7819" dir="2700000" blurRad="0" rotWithShape="0">
                    <a:srgbClr val="791e0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ffffff"/>
                      </a:solidFill>
                      <a:latin typeface="Arial Narrow"/>
                    </a:rPr>
                    <a:t>EJB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65" name=""/>
            <p:cNvSpPr/>
            <p:nvPr/>
          </p:nvSpPr>
          <p:spPr>
            <a:xfrm>
              <a:off x="5943600" y="3276720"/>
              <a:ext cx="762120" cy="6858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HTM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JS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074000" y="3276720"/>
              <a:ext cx="761760" cy="68580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471100"/>
                </a:gs>
              </a:gsLst>
              <a:lin ang="13500000"/>
            </a:gradFill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 Narrow"/>
                </a:rPr>
                <a:t>Servle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1600200" y="259092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2209680" y="3200400"/>
            <a:ext cx="1143000" cy="457200"/>
            <a:chOff x="2209680" y="3200400"/>
            <a:chExt cx="1143000" cy="457200"/>
          </a:xfrm>
        </p:grpSpPr>
        <p:sp>
          <p:nvSpPr>
            <p:cNvPr id="169" name=""/>
            <p:cNvSpPr/>
            <p:nvPr/>
          </p:nvSpPr>
          <p:spPr>
            <a:xfrm flipH="1">
              <a:off x="2209680" y="3200400"/>
              <a:ext cx="60984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19520" y="3200400"/>
              <a:ext cx="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520" y="3200400"/>
              <a:ext cx="53316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447560" y="4038480"/>
            <a:ext cx="1219320" cy="762120"/>
            <a:chOff x="1447560" y="4038480"/>
            <a:chExt cx="1219320" cy="762120"/>
          </a:xfrm>
        </p:grpSpPr>
        <p:sp>
          <p:nvSpPr>
            <p:cNvPr id="173" name=""/>
            <p:cNvSpPr/>
            <p:nvPr/>
          </p:nvSpPr>
          <p:spPr>
            <a:xfrm flipH="1">
              <a:off x="1447560" y="4038480"/>
              <a:ext cx="533160" cy="7621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1447920" y="4114800"/>
              <a:ext cx="1218960" cy="6858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1600200" y="5105520"/>
            <a:ext cx="990720" cy="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895480" y="5105520"/>
            <a:ext cx="1067040" cy="457200"/>
            <a:chOff x="2895480" y="5105520"/>
            <a:chExt cx="1067040" cy="457200"/>
          </a:xfrm>
        </p:grpSpPr>
        <p:sp>
          <p:nvSpPr>
            <p:cNvPr id="177" name=""/>
            <p:cNvSpPr/>
            <p:nvPr/>
          </p:nvSpPr>
          <p:spPr>
            <a:xfrm>
              <a:off x="2895480" y="5105520"/>
              <a:ext cx="9907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971800" y="5562720"/>
              <a:ext cx="99072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 flipV="1">
            <a:off x="4876920" y="4876920"/>
            <a:ext cx="1371600" cy="457200"/>
          </a:xfrm>
          <a:prstGeom prst="line">
            <a:avLst/>
          </a:prstGeom>
          <a:ln w="9360">
            <a:solidFill>
              <a:srgbClr val="ffcc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714640" y="2438280"/>
            <a:ext cx="2286360" cy="1981440"/>
            <a:chOff x="5714640" y="2438280"/>
            <a:chExt cx="2286360" cy="1981440"/>
          </a:xfrm>
        </p:grpSpPr>
        <p:sp>
          <p:nvSpPr>
            <p:cNvPr id="181" name=""/>
            <p:cNvSpPr/>
            <p:nvPr/>
          </p:nvSpPr>
          <p:spPr>
            <a:xfrm flipV="1">
              <a:off x="6324480" y="3962520"/>
              <a:ext cx="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7467480" y="3962520"/>
              <a:ext cx="0" cy="45720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5714640" y="2438280"/>
              <a:ext cx="609480" cy="198144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7467480" y="2514600"/>
              <a:ext cx="533520" cy="190512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-1800" y="2361960"/>
            <a:ext cx="159948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Bean Provid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49920" y="4876560"/>
            <a:ext cx="125172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Assembl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23040" y="4495680"/>
            <a:ext cx="1078200" cy="397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ploy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EJB Characteristics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8000"/>
          </a:bodyPr>
          <a:p>
            <a:pPr marL="356400" indent="-3564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The component typically contains business logic that operates on enterprise data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56400" indent="-3564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An EJB is created and managed at runtime by the EJB container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56400" indent="-3564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 can be manipulated at runtime by editing  deployment attributes.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56400" indent="-356400">
              <a:spcBef>
                <a:spcPts val="799"/>
              </a:spcBef>
              <a:buClr>
                <a:srgbClr val="3366ff"/>
              </a:buClr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It can be included in an application without requiring source code modification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00200" y="228240"/>
            <a:ext cx="7315200" cy="12193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Narrow"/>
              </a:rPr>
              <a:t>Identifying an EJB component</a:t>
            </a:r>
            <a:endParaRPr b="1" lang="en-US" sz="4400" spc="-1" strike="noStrike">
              <a:solidFill>
                <a:srgbClr val="ffcc00"/>
              </a:solidFill>
              <a:latin typeface="Arial Narrow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3124080" y="2209680"/>
            <a:ext cx="3124440" cy="3429000"/>
            <a:chOff x="3124080" y="2209680"/>
            <a:chExt cx="3124440" cy="3429000"/>
          </a:xfrm>
        </p:grpSpPr>
        <p:sp>
          <p:nvSpPr>
            <p:cNvPr id="192" name=""/>
            <p:cNvSpPr/>
            <p:nvPr/>
          </p:nvSpPr>
          <p:spPr>
            <a:xfrm>
              <a:off x="3124080" y="2209680"/>
              <a:ext cx="3124440" cy="342900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  <a:effectLst>
              <a:outerShdw dist="17819" dir="2700000" blurRad="0" rotWithShape="0">
                <a:srgbClr val="798d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65520" y="2260440"/>
              <a:ext cx="1899720" cy="519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791e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33cc"/>
                  </a:solidFill>
                  <a:latin typeface="Arial Narrow"/>
                </a:rPr>
                <a:t>EJB (ejb-jar)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238560" y="2806560"/>
            <a:ext cx="1066680" cy="106704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JB Hom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78440" y="2819520"/>
            <a:ext cx="1066680" cy="10666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EJB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Remo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140360" y="3911760"/>
            <a:ext cx="1066680" cy="1066680"/>
          </a:xfrm>
          <a:prstGeom prst="ellipse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Bea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Instan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01920" y="5105520"/>
            <a:ext cx="2743200" cy="457200"/>
          </a:xfrm>
          <a:prstGeom prst="rect">
            <a:avLst/>
          </a:prstGeom>
          <a:gradFill rotWithShape="0">
            <a:gsLst>
              <a:gs pos="0">
                <a:srgbClr val="cc3300"/>
              </a:gs>
              <a:gs pos="100000">
                <a:srgbClr val="471100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791e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Deployment Descrip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eter Marquez</dc:creator>
  <dc:description/>
  <dc:language>en-US</dc:language>
  <cp:lastModifiedBy>delphi5</cp:lastModifiedBy>
  <cp:lastPrinted>1999-07-17T02:33:34Z</cp:lastPrinted>
  <dcterms:modified xsi:type="dcterms:W3CDTF">1999-09-28T16:35:45Z</dcterms:modified>
  <cp:revision>688</cp:revision>
  <dc:subject/>
  <dc:title>No Slide Title</dc:title>
</cp:coreProperties>
</file>